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7.pct" ContentType="image/x-pict"/>
  <Override PartName="/ppt/media/image14.pct" ContentType="image/x-pict"/>
  <Override PartName="/ppt/media/image2.jpeg" ContentType="image/jpeg"/>
  <Override PartName="/ppt/media/image18.pct" ContentType="image/x-pict"/>
  <Override PartName="/ppt/media/image1.jpeg" ContentType="image/jpeg"/>
  <Override PartName="/ppt/media/image3.jpeg" ContentType="image/jpeg"/>
  <Override PartName="/ppt/media/image15.pct" ContentType="image/x-pict"/>
  <Override PartName="/ppt/media/image4.png" ContentType="image/png"/>
  <Override PartName="/ppt/media/image13.jpeg" ContentType="image/jpeg"/>
  <Override PartName="/ppt/media/image5.jpeg" ContentType="image/jpeg"/>
  <Override PartName="/ppt/media/image16.pct" ContentType="image/x-pict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E7B-AEAA-42DF-B759-D23714C9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48E-BB7B-4039-AACD-2CE8D7E0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D6D-5019-465A-A276-CACAE1CB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93F-53D7-4D9B-87C4-843A3453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4D60-28D1-43F4-ADD9-289D0750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0315-FF8D-455F-81DB-02986F0C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A56F-FF0A-4F28-8CB4-F9125006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CBF2-BDE4-412F-AE51-D5DF6022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3FC3-CA95-48D6-89D5-2A7CF937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8576-78A9-4CA6-B3CC-0A3A5F85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D36D-455B-4663-BB0B-C475CAAE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7F6-4377-418C-9644-9D10E6D8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CC07-1A49-45D5-81B8-230C839D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F684-77CC-49F8-87CA-618D8071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3460-5458-4DF5-B2FD-3C278FB3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5F07-B880-4574-B354-015FC8B8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9D90-5699-4EB3-86CC-ECC7F7A0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147-2368-4A68-A709-5BB66108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A73-3212-4F4F-A49C-858BFCF0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388-B93D-4E7D-97EE-2C08643B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DD1-E60B-40FA-B3EA-E28D0DB5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A6D-EE1B-4797-A670-90332086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9F8-1AB4-400C-8D4C-827778D8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BE4-2BFC-49D6-AA70-46F13D82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6145-2057-4465-A41B-B18B7A0E5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B4A8-7571-4C38-B011-CA202DFDD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43a1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14.pct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package" Target="../embeddings/oleObject2.docx"/><Relationship Id="rId10" Type="http://schemas.openxmlformats.org/officeDocument/2006/relationships/image" Target="../media/image15.pct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pct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pct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package" Target="../embeddings/oleObject3.docx"/><Relationship Id="rId12" Type="http://schemas.openxmlformats.org/officeDocument/2006/relationships/image" Target="../media/image18.pct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28ff"/>
                </a:solidFill>
                <a:latin typeface="Arial"/>
              </a:rPr>
              <a:t>WHAT IS “A JAPANESE”?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Perspectives of a Naturalized Japanese (and his students)</a:t>
            </a:r>
            <a:br>
              <a:rPr sz="1800"/>
            </a:br>
            <a:r>
              <a:rPr b="0" lang="en-US" sz="1800" spc="-1" strike="noStrike">
                <a:solidFill>
                  <a:srgbClr val="343a1b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2400" spc="-1" strike="noStrike">
                <a:solidFill>
                  <a:srgbClr val="343a1b"/>
                </a:solidFill>
                <a:latin typeface="Arial"/>
              </a:rPr>
              <a:t>By ARUDOU Debito</a:t>
            </a:r>
            <a:br>
              <a:rPr sz="2400"/>
            </a:br>
            <a:r>
              <a:rPr b="0" i="1" lang="en-US" sz="2000" spc="-1" strike="noStrike">
                <a:solidFill>
                  <a:srgbClr val="343a1b"/>
                </a:solidFill>
                <a:latin typeface="Arial"/>
              </a:rPr>
              <a:t>Associate Professor, Hokkaido Information University</a:t>
            </a:r>
            <a:br>
              <a:rPr sz="2000"/>
            </a:br>
            <a:r>
              <a:rPr b="0" i="1" lang="en-US" sz="2000" spc="-1" strike="noStrike">
                <a:solidFill>
                  <a:srgbClr val="343a1b"/>
                </a:solidFill>
                <a:latin typeface="Arial"/>
              </a:rPr>
              <a:t>International Christian University, Wednesday, April 25, 2007</a:t>
            </a:r>
            <a:endParaRPr b="0" lang="en-US" sz="20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828440" y="52574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ownload this Powerpoint Presentation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www.debito.org/</a:t>
            </a:r>
            <a:r>
              <a:rPr b="1" lang="en-US" sz="1800" spc="-1" strike="noStrike">
                <a:solidFill>
                  <a:srgbClr val="1428ff"/>
                </a:solidFill>
                <a:latin typeface="Arial"/>
                <a:ea typeface="ＭＳ 明朝"/>
              </a:rPr>
              <a:t>IC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042507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28ff"/>
                </a:solidFill>
                <a:latin typeface="Arial"/>
              </a:rPr>
              <a:t>Interpretations of the data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voted clearly Japanese, registering more than 85% of the total votes, were the “mixed children” (Miyazawa Rie 95%, Daughter Amy 91%, Daughter Anna 89%, Umemiya Anna 88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everyone in the survey was voted to be “a Japanese”, even if they did not have Japanese citizenship (Wada and O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28ff"/>
                </a:solidFill>
                <a:latin typeface="Arial"/>
              </a:rPr>
              <a:t>Interpretations of the data (2)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e exception, even with “citizenship” was Alberto Fujimori.  Even with blood, students said it was his lack of language Japanese 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Arudou Debito was granted “Japaneseness”, because of his language abilities.  This would not have happened if students had only just met him, or had only seen a photo of him, they s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28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Japanese language ability is the qualifier to “entitlement” for “Japaneseness”.  If you want to be considered a Japanese, you had better speak out and claim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28ff"/>
                </a:solidFill>
                <a:latin typeface="Arial"/>
              </a:rPr>
              <a:t>Conclusions (2)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eseness” and “language ability” may in fact not be a racially-based social construct, as more non-native speakers and multiethnic natives continue to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good news for Japan’s emerging multicultural, multiethnic, and multilingual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28ff"/>
                </a:solidFill>
                <a:latin typeface="Arial"/>
              </a:rPr>
              <a:t>Conclusions (3)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 Arudou Debito’s view, “A Japanese” is someone who has Japanese citizenship.  No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make the qualification for “Japaneseness” a matter of earnable citizenship, any other conditions are too grey and arbitrary for clear jud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28ff"/>
                </a:solidFill>
                <a:latin typeface="Arial"/>
              </a:rPr>
              <a:t>Conclusions (4)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5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make “Japaneseness” a matter of legal status, i.e. something earnable, you get into unchangeable conditions, such as blood or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ribing something as important to identity as nationality to something granted only by birth will result in a lot of hurt international children with Japanese passpo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c090f"/>
                </a:solidFill>
                <a:uFillTx/>
                <a:latin typeface="Arial"/>
              </a:rPr>
              <a:t>Download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ＭＳ 明朝"/>
              </a:rPr>
              <a:t>See my website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1" lang="en-US" sz="3600" spc="-1" strike="noStrike">
                <a:solidFill>
                  <a:srgbClr val="ff0912"/>
                </a:solidFill>
                <a:latin typeface="Arial"/>
                <a:ea typeface="ＭＳ 明朝"/>
              </a:rPr>
              <a:t>www.debito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Download this Powerpoint Presentation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明朝"/>
              </a:rPr>
              <a:t>www.debito.org/</a:t>
            </a:r>
            <a:r>
              <a:rPr b="1" lang="en-US" sz="3600" spc="-1" strike="noStrike">
                <a:solidFill>
                  <a:srgbClr val="1428ff"/>
                </a:solidFill>
                <a:latin typeface="Arial"/>
                <a:ea typeface="ＭＳ 明朝"/>
              </a:rPr>
              <a:t>IC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明朝"/>
              </a:rPr>
              <a:t>042507.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66560" y="5181480"/>
            <a:ext cx="71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428ff"/>
                </a:solidFill>
                <a:latin typeface="Arial"/>
              </a:rPr>
              <a:t>--Thank you for listening to my presen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Alright, I’ll ask you, right now:</a:t>
            </a:r>
            <a:br>
              <a:rPr sz="4400"/>
            </a:br>
            <a:r>
              <a:rPr b="1" lang="en-US" sz="4400" spc="-1" strike="noStrike">
                <a:solidFill>
                  <a:srgbClr val="1428ff"/>
                </a:solidFill>
                <a:latin typeface="Arial"/>
              </a:rPr>
              <a:t>What is “a Japanese”?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090f"/>
                </a:solidFill>
                <a:latin typeface="Arial"/>
              </a:rPr>
              <a:t>There are no right or wrong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write down </a:t>
            </a:r>
            <a:r>
              <a:rPr b="1" lang="en-US" sz="3200" spc="-1" strike="noStrike">
                <a:solidFill>
                  <a:srgbClr val="1428ff"/>
                </a:solidFill>
                <a:latin typeface="Arial"/>
              </a:rPr>
              <a:t>your own, personal opin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you discuss it with your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inutes, go a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61560" y="430200"/>
            <a:ext cx="5974920" cy="520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じゃあ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people Japanese or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4812" t="0" r="9599" b="0"/>
          <a:stretch/>
        </p:blipFill>
        <p:spPr>
          <a:xfrm>
            <a:off x="7010280" y="3657600"/>
            <a:ext cx="154800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138744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14400" y="373392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9040" y="804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733920" y="1219320"/>
            <a:ext cx="1415880" cy="2057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172200" y="13716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rcRect l="10869" t="6976" r="10869" b="6976"/>
          <a:stretch/>
        </p:blipFill>
        <p:spPr>
          <a:xfrm>
            <a:off x="3124080" y="3733920"/>
            <a:ext cx="1146240" cy="1958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81080" y="144792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da Ak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81960" y="2666880"/>
            <a:ext cx="17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yazawa 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25880" y="3305160"/>
            <a:ext cx="192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emiya A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r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2800" y="5334120"/>
            <a:ext cx="209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ugasa Sach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ball h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000" y="4267080"/>
            <a:ext cx="17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 Sadah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ball h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5181480"/>
            <a:ext cx="19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erto Fujim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r. Peru P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86000" y="304920"/>
            <a:ext cx="6509880" cy="520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じゃあ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people Japanese or not?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040" y="804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129528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ish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r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236232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eb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Fi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80600" y="3200400"/>
            <a:ext cx="159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os R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cer H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152280" y="1066680"/>
            <a:ext cx="2590920" cy="2237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4191120" y="1066680"/>
            <a:ext cx="1709640" cy="243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0" t="0" r="9599" b="0"/>
          <a:stretch/>
        </p:blipFill>
        <p:spPr>
          <a:xfrm>
            <a:off x="6553080" y="1066680"/>
            <a:ext cx="19288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4"/>
          <a:srcRect l="17204" t="6536" r="53763" b="29413"/>
          <a:stretch/>
        </p:blipFill>
        <p:spPr>
          <a:xfrm>
            <a:off x="228600" y="3505320"/>
            <a:ext cx="2046240" cy="2971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rcRect l="47312" t="16341" r="12903" b="19609"/>
          <a:stretch/>
        </p:blipFill>
        <p:spPr>
          <a:xfrm>
            <a:off x="3505320" y="3733920"/>
            <a:ext cx="237492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705720" y="3886200"/>
            <a:ext cx="2050920" cy="2971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57040" y="388620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0560" y="548640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6156360"/>
            <a:ext cx="180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udou Deb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s Tr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050d"/>
                </a:solidFill>
                <a:latin typeface="Arial"/>
              </a:rPr>
              <a:t>Previous Student Surveys: </a:t>
            </a:r>
            <a:br>
              <a:rPr sz="4000"/>
            </a:br>
            <a:r>
              <a:rPr b="0" lang="en-US" sz="3600" spc="-1" strike="noStrike">
                <a:solidFill>
                  <a:srgbClr val="e1050d"/>
                </a:solidFill>
                <a:latin typeface="Arial"/>
              </a:rPr>
              <a:t>“Who qualifies to be a Japanese?”</a:t>
            </a:r>
            <a:endParaRPr b="0" lang="en-US" sz="36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class, orally, show-of-hands informal survey with discu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U regular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mon gakk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nsive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wide:  Sapporo, Niigata, Nagoya, Hiroshima, Kokura (recorded), plus Sendai, Osaka, Fukuoka, and Oita (not record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whelmingly male, lower-income bracket, non English majors, ages 18-25 (plus a fe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kaij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5-2005, with little significant change ove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Students’ answers </a:t>
            </a:r>
            <a:br>
              <a:rPr sz="4400"/>
            </a:br>
            <a:r>
              <a:rPr b="0" i="1" lang="en-US" sz="2400" spc="-1" strike="noStrike">
                <a:solidFill>
                  <a:srgbClr val="343a1b"/>
                </a:solidFill>
                <a:latin typeface="Arial"/>
              </a:rPr>
              <a:t>(in no order of preference or importance)</a:t>
            </a:r>
            <a:endParaRPr b="0" lang="en-US" sz="2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47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person who has lived in Jap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に住んだことがあ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person who considers him/herself "Japanes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自分が「日本人だ」と思う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person who has Japanese citizen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国籍を有す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person who has assimilated into Jap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に溶け込んでい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person born in Jap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で生まれた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person who has spent the majority of his/her life in Jap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人生の大半を日本で過ごした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Students’ answers (2) </a:t>
            </a:r>
            <a:br>
              <a:rPr sz="4400"/>
            </a:br>
            <a:r>
              <a:rPr b="0" i="1" lang="en-US" sz="2400" spc="-1" strike="noStrike">
                <a:solidFill>
                  <a:srgbClr val="343a1b"/>
                </a:solidFill>
                <a:latin typeface="Arial"/>
              </a:rPr>
              <a:t>(in no order of preference or importance)</a:t>
            </a:r>
            <a:endParaRPr b="0" lang="en-US" sz="2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89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person who likes Jap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が好きな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person who has Japanese bl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の血が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入っている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person who knows a lot about Jap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について詳し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person using Japanese in everyday conver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常会話で日本語を使う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person with Japanese parents/grandpar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両親・</a:t>
            </a:r>
            <a:r>
              <a:rPr b="1" lang="en-US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祖父母</a:t>
            </a: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に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人がいる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person who is proud of Jap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について誇りを持つ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4812" t="0" r="9599" b="0"/>
          <a:stretch/>
        </p:blipFill>
        <p:spPr>
          <a:xfrm>
            <a:off x="0" y="4114800"/>
            <a:ext cx="806400" cy="1071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78588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19040" y="804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371600" y="1066680"/>
          <a:ext cx="7467480" cy="3978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1066680"/>
                    <a:ext cx="7467480" cy="3978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744640" y="1522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vey Result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0" y="1752480"/>
            <a:ext cx="690480" cy="1003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609480" y="2590920"/>
            <a:ext cx="716040" cy="715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rcRect l="10869" t="0" r="10869" b="0"/>
          <a:stretch/>
        </p:blipFill>
        <p:spPr>
          <a:xfrm>
            <a:off x="757080" y="3505320"/>
            <a:ext cx="522360" cy="103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1371600" y="5375160"/>
          <a:ext cx="7391520" cy="8874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5375160"/>
                    <a:ext cx="73915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5334120"/>
            <a:ext cx="105264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1219320" y="1066680"/>
          <a:ext cx="7696080" cy="116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066680"/>
                    <a:ext cx="7696080" cy="11638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439720" y="1522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vey Result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371600" y="5105520"/>
          <a:ext cx="7391520" cy="1428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5105520"/>
                    <a:ext cx="739152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" descr=""/>
          <p:cNvPicPr/>
          <p:nvPr/>
        </p:nvPicPr>
        <p:blipFill>
          <a:blip r:embed="rId6">
            <a:lum contrast="16000"/>
          </a:blip>
          <a:stretch/>
        </p:blipFill>
        <p:spPr>
          <a:xfrm>
            <a:off x="152280" y="990720"/>
            <a:ext cx="990720" cy="855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>
            <a:lum contrast="14000"/>
          </a:blip>
          <a:stretch/>
        </p:blipFill>
        <p:spPr>
          <a:xfrm>
            <a:off x="0" y="1828800"/>
            <a:ext cx="654120" cy="933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rcRect l="0" t="0" r="9599" b="0"/>
          <a:stretch/>
        </p:blipFill>
        <p:spPr>
          <a:xfrm>
            <a:off x="457200" y="2666880"/>
            <a:ext cx="738360" cy="81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9"/>
          <a:srcRect l="17204" t="6536" r="53763" b="29413"/>
          <a:stretch/>
        </p:blipFill>
        <p:spPr>
          <a:xfrm>
            <a:off x="0" y="3429000"/>
            <a:ext cx="782640" cy="1136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"/>
          <a:srcRect l="47312" t="16341" r="12903" b="19609"/>
          <a:stretch/>
        </p:blipFill>
        <p:spPr>
          <a:xfrm>
            <a:off x="304920" y="4419720"/>
            <a:ext cx="907920" cy="961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733840" y="54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19320" y="2286000"/>
          <a:ext cx="7662600" cy="27464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2286000"/>
                    <a:ext cx="7662600" cy="27464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01:25:42Z</dcterms:created>
  <dc:creator>Arudou  Debito</dc:creator>
  <dc:description/>
  <dc:language>en-US</dc:language>
  <cp:lastModifiedBy>Arudou  Debito</cp:lastModifiedBy>
  <dcterms:modified xsi:type="dcterms:W3CDTF">2007-04-25T00:00:03Z</dcterms:modified>
  <cp:revision>35</cp:revision>
  <dc:subject/>
  <dc:title>WHO OWNS LANGUAGE? Perspectives of a Naturalized Japanese By ARUDOU Debito Associate Professor, Hokkaido Information University  Linguapax Asia 2006 Third International Symposium Tokyo University, Saturday, October 7, 2006</dc:title>
</cp:coreProperties>
</file>