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7.pct" ContentType="image/x-pict"/>
  <Override PartName="/ppt/media/image14.pct" ContentType="image/x-pict"/>
  <Override PartName="/ppt/media/image2.jpeg" ContentType="image/jpeg"/>
  <Override PartName="/ppt/media/image18.pct" ContentType="image/x-pict"/>
  <Override PartName="/ppt/media/image1.jpeg" ContentType="image/jpeg"/>
  <Override PartName="/ppt/media/image3.jpeg" ContentType="image/jpeg"/>
  <Override PartName="/ppt/media/image15.pct" ContentType="image/x-pict"/>
  <Override PartName="/ppt/media/image4.png" ContentType="image/png"/>
  <Override PartName="/ppt/media/image13.jpeg" ContentType="image/jpeg"/>
  <Override PartName="/ppt/media/image5.jpeg" ContentType="image/jpeg"/>
  <Override PartName="/ppt/media/image16.pct" ContentType="image/x-pict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2FA-4F81-454B-93B4-667C1B11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A15-6994-498C-AD20-DFE7F76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A39-B627-4868-8131-B8C8BB95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060-492D-4555-A2BB-01D8E9F2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83BC-4B29-4644-A1BA-FF01CDE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30BA-D423-47DA-91BB-CF75E5D8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C7D-19F1-4E1A-92F4-B853A294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148-E285-4D9D-BEAE-D83668D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1DA7-6F41-49D9-8D79-568637BB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FC0D-8D64-4932-AB7D-7FF40BB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F4B-334A-44CE-8A3B-BEED220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EBD-FF5B-442A-A764-7162D41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E602-2EA8-4AEB-A067-D57BBD1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C292-4824-4DA7-A078-C196C97A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7942-BD68-43DB-A095-B1A96298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27B9-9FAB-488F-AED9-CFE3A853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97D2-9D88-431C-9CE4-4C9AAE94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3B8-BB93-43F0-9BA9-DC80132A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F60-9BDF-42C8-A8B4-172AB8E2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38E-4D00-4451-A1ED-D6A7A1B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E9D-53EB-4C20-9DE8-1A0439F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D4B-468D-458F-BA4B-8E876F8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3C1-C446-408B-8C40-7565792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6F6-14DB-4625-850A-4E33DF4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C56D-0896-4327-BF14-4F7ECA057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03D-8D26-498E-9A73-A7B7F9F75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14.pct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pct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8.pct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WHAT IS “A JAPANESE”?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erspectives of a Naturalized Japanese (and his students)</a:t>
            </a:r>
            <a:br>
              <a:rPr sz="1800"/>
            </a:br>
            <a:r>
              <a:rPr b="0" lang="en-US" sz="1800" spc="-1" strike="noStrike">
                <a:solidFill>
                  <a:srgbClr val="343a1b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2400" spc="-1" strike="noStrike">
                <a:solidFill>
                  <a:srgbClr val="343a1b"/>
                </a:solidFill>
                <a:latin typeface="Arial"/>
              </a:rPr>
              <a:t>By ARUDOU Debito</a:t>
            </a:r>
            <a:br>
              <a:rPr sz="24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</a:rPr>
              <a:t>Associate Professor, Hokkaido Information University</a:t>
            </a:r>
            <a:br>
              <a:rPr sz="20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</a:rPr>
              <a:t>International Christian University, Wednesday, April 25, 2007</a:t>
            </a:r>
            <a:endParaRPr b="0" lang="en-US" sz="20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8440" y="52574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ownload this Powerpoint Presentation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ww.debito.org/</a:t>
            </a:r>
            <a:r>
              <a:rPr b="1" lang="en-US" sz="1800" spc="-1" strike="noStrike">
                <a:solidFill>
                  <a:srgbClr val="1428ff"/>
                </a:solidFill>
                <a:latin typeface="Arial"/>
                <a:ea typeface="ＭＳ 明朝"/>
              </a:rPr>
              <a:t>IC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042507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28ff"/>
                </a:solidFill>
                <a:latin typeface="Arial"/>
              </a:rPr>
              <a:t>Interpretations of the data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voted clearly Japanese, registering more than 85% of the total votes, were the “mixed children” (Miyazawa Rie 95%, Daughter Amy 91%, Daughter Anna 89%, Umemiya Anna 8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veryone in the survey was voted to be “a Japanese”, even if they did not have Japanese citizenship (Wada and O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28ff"/>
                </a:solidFill>
                <a:latin typeface="Arial"/>
              </a:rPr>
              <a:t>Interpretations of the data (2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e exception, even with “citizenship” was Alberto Fujimori.  Even with blood, students said it was his lack of language Japanese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rudou Debito was granted “Japaneseness”, because of his language abilities.  This would not have happened if students had only just met him, or had only seen a photo of him, they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Japanese language ability is the qualifier to “entitlement” for “Japaneseness”.  If you want to be considered a Japanese, you had better speak out and clai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ness” and “language ability” may in fact not be a racially-based social construct, as more non-native speakers and multiethnic natives continue to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good news for Japan’s emerging multicultural, multiethnic, and multilingual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 (3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Arudou Debito’s view, “A Japanese” is someone who has Japanese citizenship.  No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make the qualification for “Japaneseness” a matter of earnable citizenship, any other conditions are too grey and arbitrary for clear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Conclusions (4)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5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make “Japaneseness” a matter of legal status, i.e. something earnable, you get into unchangeable conditions, such as blood or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ribing something as important to identity as nationality to something granted only by birth will result in a lot of hurt international children with Japanese pass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c090f"/>
                </a:solidFill>
                <a:uFillTx/>
                <a:latin typeface="Arial"/>
              </a:rPr>
              <a:t>Download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See my website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1" lang="en-US" sz="3600" spc="-1" strike="noStrike">
                <a:solidFill>
                  <a:srgbClr val="ff0912"/>
                </a:solidFill>
                <a:latin typeface="Arial"/>
                <a:ea typeface="ＭＳ 明朝"/>
              </a:rPr>
              <a:t>www.debito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Download this Powerpoint Presentation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www.debito.org/</a:t>
            </a:r>
            <a:r>
              <a:rPr b="1" lang="en-US" sz="3600" spc="-1" strike="noStrike">
                <a:solidFill>
                  <a:srgbClr val="1428ff"/>
                </a:solidFill>
                <a:latin typeface="Arial"/>
                <a:ea typeface="ＭＳ 明朝"/>
              </a:rPr>
              <a:t>IC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042507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66560" y="51814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428ff"/>
                </a:solidFill>
                <a:latin typeface="Arial"/>
              </a:rPr>
              <a:t>--Thank you for listening to my pres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lright, I’ll ask you, right now:</a:t>
            </a:r>
            <a:br>
              <a:rPr sz="4400"/>
            </a:br>
            <a:r>
              <a:rPr b="1" lang="en-US" sz="4400" spc="-1" strike="noStrike">
                <a:solidFill>
                  <a:srgbClr val="1428ff"/>
                </a:solidFill>
                <a:latin typeface="Arial"/>
              </a:rPr>
              <a:t>What is “a Japanese”?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90f"/>
                </a:solidFill>
                <a:latin typeface="Arial"/>
              </a:rPr>
              <a:t>There are no right or wrong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rite down </a:t>
            </a:r>
            <a:r>
              <a:rPr b="1" lang="en-US" sz="3200" spc="-1" strike="noStrike">
                <a:solidFill>
                  <a:srgbClr val="1428ff"/>
                </a:solidFill>
                <a:latin typeface="Arial"/>
              </a:rPr>
              <a:t>your own, personal opin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you discuss it with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inutes, go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61560" y="430200"/>
            <a:ext cx="597492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じゃあ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people Japanese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4812" t="0" r="9599" b="0"/>
          <a:stretch/>
        </p:blipFill>
        <p:spPr>
          <a:xfrm>
            <a:off x="7010280" y="3657600"/>
            <a:ext cx="1548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138744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9040" y="804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733920" y="1219320"/>
            <a:ext cx="141588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172200" y="1371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rcRect l="10869" t="6976" r="10869" b="6976"/>
          <a:stretch/>
        </p:blipFill>
        <p:spPr>
          <a:xfrm>
            <a:off x="3124080" y="3733920"/>
            <a:ext cx="1146240" cy="195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144792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da Ak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81960" y="266688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yazawa 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25880" y="3305160"/>
            <a:ext cx="192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emiya 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2800" y="5334120"/>
            <a:ext cx="209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ugasa Sac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000" y="4267080"/>
            <a:ext cx="17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 Sadah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18148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erto Fujim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r. Peru P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86000" y="304920"/>
            <a:ext cx="650988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じゃあ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people Japanese or not?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804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29528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sh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36232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e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Fi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0600" y="320040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os R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cer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152280" y="1066680"/>
            <a:ext cx="2590920" cy="223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4191120" y="1066680"/>
            <a:ext cx="1709640" cy="243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9599" b="0"/>
          <a:stretch/>
        </p:blipFill>
        <p:spPr>
          <a:xfrm>
            <a:off x="6553080" y="1066680"/>
            <a:ext cx="19288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17204" t="6536" r="53763" b="29413"/>
          <a:stretch/>
        </p:blipFill>
        <p:spPr>
          <a:xfrm>
            <a:off x="228600" y="3505320"/>
            <a:ext cx="204624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47312" t="16341" r="12903" b="19609"/>
          <a:stretch/>
        </p:blipFill>
        <p:spPr>
          <a:xfrm>
            <a:off x="3505320" y="3733920"/>
            <a:ext cx="237492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705720" y="3886200"/>
            <a:ext cx="20509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040" y="38862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560" y="54864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615636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udou De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s Tr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050d"/>
                </a:solidFill>
                <a:latin typeface="Arial"/>
              </a:rPr>
              <a:t>Previous Student Surveys: </a:t>
            </a:r>
            <a:br>
              <a:rPr sz="4000"/>
            </a:br>
            <a:r>
              <a:rPr b="0" lang="en-US" sz="3600" spc="-1" strike="noStrike">
                <a:solidFill>
                  <a:srgbClr val="e1050d"/>
                </a:solidFill>
                <a:latin typeface="Arial"/>
              </a:rPr>
              <a:t>“Who qualifies to be a Japanese?”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class, orally, show-of-hands informal survey with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U regula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mon gakk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nsiv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wide:  Sapporo, Niigata, Nagoya, Hiroshima, Kokura (recorded), plus Sendai, Osaka, Fukuoka, and Oita (not record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whelmingly male, lower-income bracket, non English majors, ages 18-25 (plus a f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kaij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-2005, with little significant change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tudents’ answers </a:t>
            </a:r>
            <a:br>
              <a:rPr sz="4400"/>
            </a:br>
            <a:r>
              <a:rPr b="0" i="1" lang="en-US" sz="2400" spc="-1" strike="noStrike">
                <a:solidFill>
                  <a:srgbClr val="343a1b"/>
                </a:solidFill>
                <a:latin typeface="Arial"/>
              </a:rPr>
              <a:t>(in no order of preference or importance)</a:t>
            </a:r>
            <a:endParaRPr b="0" lang="en-US" sz="2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47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lived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住んだことがあ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considers him/herself "Japanes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自分が「日本人だ」と思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Japanese citizen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国籍を有す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assimilated into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溶け込んでい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born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で生まれ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person who has spent the majority of his/her life in Jap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人生の大半を日本で過ごし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tudents’ answers (2) </a:t>
            </a:r>
            <a:br>
              <a:rPr sz="4400"/>
            </a:br>
            <a:r>
              <a:rPr b="0" i="1" lang="en-US" sz="2400" spc="-1" strike="noStrike">
                <a:solidFill>
                  <a:srgbClr val="343a1b"/>
                </a:solidFill>
                <a:latin typeface="Arial"/>
              </a:rPr>
              <a:t>(in no order of preference or importance)</a:t>
            </a:r>
            <a:endParaRPr b="0" lang="en-US" sz="2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8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 who likes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が好き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 who has Japanese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の血が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入ってい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who knows a lot about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ついて詳し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using Japanese in everyday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常会話で日本語を使う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with Japanese parents/grand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両親・</a:t>
            </a:r>
            <a:r>
              <a:rPr b="1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祖父母</a:t>
            </a: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に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人がい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erson who is proud of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ヒラギノ角ゴ Pro W3"/>
              </a:rPr>
              <a:t>日本について誇りを持つ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4812" t="0" r="9599" b="0"/>
          <a:stretch/>
        </p:blipFill>
        <p:spPr>
          <a:xfrm>
            <a:off x="0" y="4114800"/>
            <a:ext cx="8064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78588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040" y="804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1600" y="1066680"/>
          <a:ext cx="7467480" cy="3978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1066680"/>
                    <a:ext cx="7467480" cy="3978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744640" y="152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Result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69048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09480" y="2590920"/>
            <a:ext cx="716040" cy="71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rcRect l="10869" t="0" r="10869" b="0"/>
          <a:stretch/>
        </p:blipFill>
        <p:spPr>
          <a:xfrm>
            <a:off x="757080" y="3505320"/>
            <a:ext cx="522360" cy="103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371600" y="5375160"/>
          <a:ext cx="7391520" cy="887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5375160"/>
                    <a:ext cx="73915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10526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219320" y="1066680"/>
          <a:ext cx="7696080" cy="116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66680"/>
                    <a:ext cx="7696080" cy="1163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439720" y="152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Result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5105520"/>
          <a:ext cx="7391520" cy="1428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5105520"/>
                    <a:ext cx="73915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6">
            <a:lum contrast="16000"/>
          </a:blip>
          <a:stretch/>
        </p:blipFill>
        <p:spPr>
          <a:xfrm>
            <a:off x="152280" y="990720"/>
            <a:ext cx="990720" cy="855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>
            <a:lum contrast="14000"/>
          </a:blip>
          <a:stretch/>
        </p:blipFill>
        <p:spPr>
          <a:xfrm>
            <a:off x="0" y="1828800"/>
            <a:ext cx="654120" cy="933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rcRect l="0" t="0" r="9599" b="0"/>
          <a:stretch/>
        </p:blipFill>
        <p:spPr>
          <a:xfrm>
            <a:off x="457200" y="2666880"/>
            <a:ext cx="738360" cy="8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9"/>
          <a:srcRect l="17204" t="6536" r="53763" b="29413"/>
          <a:stretch/>
        </p:blipFill>
        <p:spPr>
          <a:xfrm>
            <a:off x="0" y="3429000"/>
            <a:ext cx="782640" cy="113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rcRect l="47312" t="16341" r="12903" b="19609"/>
          <a:stretch/>
        </p:blipFill>
        <p:spPr>
          <a:xfrm>
            <a:off x="304920" y="4419720"/>
            <a:ext cx="907920" cy="961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33840" y="54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19320" y="2286000"/>
          <a:ext cx="7662600" cy="2746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2286000"/>
                    <a:ext cx="7662600" cy="2746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1:25:42Z</dcterms:created>
  <dc:creator>Arudou  Debito</dc:creator>
  <dc:description/>
  <dc:language>en-US</dc:language>
  <cp:lastModifiedBy>Arudou  Debito</cp:lastModifiedBy>
  <dcterms:modified xsi:type="dcterms:W3CDTF">2007-04-25T00:00:03Z</dcterms:modified>
  <cp:revision>35</cp:revision>
  <dc:subject/>
  <dc:title>WHO OWNS LANGUAGE? Perspectives of a Naturalized Japanese By ARUDOU Debito Associate Professor, Hokkaido Information University  Linguapax Asia 2006 Third International Symposium Tokyo University, Saturday, October 7, 2006</dc:title>
</cp:coreProperties>
</file>