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F71E-C32E-43A5-879F-C63A974F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C287-F7F2-4336-A728-9AD30C81C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B8F-44D1-4602-A59B-49243BA2F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7277-300A-4F26-9F39-E4DC1DC6C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7FD4-DB51-42C5-B114-54780A32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A250-659A-4AE0-998D-2EB8B343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7460-1707-4244-9B26-5931ED432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529E-A543-4EFC-BBBC-D49127D9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D38A1-583F-494C-8F5D-C448B6A2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4F57B-7801-43B3-9C9E-176B5CDF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66A6-C368-4193-A58D-22DA64D6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998C1-3629-4014-8148-CD9EC4C75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5FE1-08A3-44F5-8AB6-CCE8826C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B2DC-DF64-434F-B059-BEE73038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10020-134B-4551-A4AE-1DBB61DA4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426BA-E818-4056-B727-6184BAB21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6F4A-3354-4C51-ADDC-93236ABDB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FFC7-1FDF-4958-B65A-019A4099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3DDA-BEA2-4F2B-B988-85E5AA1C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8940-8E48-4E33-98CF-F937DDE7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86DD-3D15-4C06-9C81-FE543E00E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5B1D-C312-467B-9D36-E4E39FB2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F9BF-2C22-42AF-9840-EC1336AD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85B-4347-4FD6-B38C-1AF11D1D9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c00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c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2FF98-8666-479F-A201-62398D224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038-5EF0-4B7F-A344-5A80E490C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dave@fortakaandmana.com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312"/>
                </a:solidFill>
                <a:latin typeface="Arial"/>
              </a:rPr>
              <a:t>"If your ex runs away with your kids, do you know what you can do about it?”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312"/>
                </a:solidFill>
                <a:latin typeface="Arial"/>
              </a:rPr>
              <a:t>-Almost nothing.</a:t>
            </a:r>
            <a:endParaRPr b="0" lang="en-US" sz="28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800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al child abduction occurs with alarming frequency in Jap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support a film that examines the 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3880" y="2514600"/>
            <a:ext cx="60962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3005f"/>
                </a:solidFill>
                <a:latin typeface="Chalkboard"/>
              </a:rPr>
              <a:t>Fundraiser in December!</a:t>
            </a:r>
            <a:br>
              <a:rPr sz="3600"/>
            </a:br>
            <a:r>
              <a:rPr b="1" lang="en-US" sz="3600" spc="-1" strike="noStrike">
                <a:solidFill>
                  <a:srgbClr val="23005f"/>
                </a:solidFill>
                <a:latin typeface="Chalkboard"/>
              </a:rPr>
              <a:t>Please join, contribute to the film and learn more.</a:t>
            </a:r>
            <a:endParaRPr b="0" lang="en-US" sz="36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n: Tue. December 11th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here: Pink Cow restaurant Shibu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0000"/>
                </a:solidFill>
                <a:latin typeface="Arial"/>
              </a:rPr>
              <a:t>http://www.thepinkcow.com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Price: 10,000 y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Event: Presentations from experts, Audio/Visual presentation, Discu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Beautiful Buffet dinner with 2 drin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Contact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Chalkboard"/>
                <a:hlinkClick r:id="rId1"/>
              </a:rPr>
              <a:t>dave@fortakaandmana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halkboard"/>
              </a:rPr>
              <a:t>Website: </a:t>
            </a:r>
            <a:r>
              <a:rPr b="0" lang="en-US" sz="3600" spc="-1" strike="noStrike">
                <a:solidFill>
                  <a:srgbClr val="000000"/>
                </a:solidFill>
                <a:latin typeface="Chalkboard"/>
              </a:rPr>
              <a:t>www.fortakaandmana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ave and Matt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al Introdu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we became involved i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 and plan for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51160" y="1981080"/>
            <a:ext cx="26416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railer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rail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Steve Christi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ption of the time Steve Christi met his son Kento for an hour in a courthouse in Osaka. How difficult it was to get and the limits placed on h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147840" y="1981080"/>
            <a:ext cx="2846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Debito Arudou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bout racial discrimination in Japanese  courts, concentrating on civil courts if you c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 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797280" y="1981080"/>
            <a:ext cx="1548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Colin Jon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Japanese people get treated in Japanese courts - not just a foreigner 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how “maintaining status quo” and docket clearing are major reasons Japanese courts are the way they 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 1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Paulo Marques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bout the day he was reunified with his daugh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t feels to have Elena back in his life and how they are doing after almost a ye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Trailer again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is never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aking time: 10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c64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3005f"/>
                </a:solidFill>
                <a:latin typeface="Futura"/>
              </a:rPr>
              <a:t>Jim McRae</a:t>
            </a:r>
            <a:endParaRPr b="0" lang="en-US" sz="4400" spc="-1" strike="noStrike">
              <a:solidFill>
                <a:srgbClr val="23005f"/>
              </a:solidFill>
              <a:latin typeface="Futur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19814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about PAS and effects of abduction on the children caught in the midd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c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aking time: 10 minu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06:07:27Z</dcterms:created>
  <dc:creator>David Hearn</dc:creator>
  <dc:description/>
  <dc:language>en-US</dc:language>
  <cp:lastModifiedBy>Arudou  Debito</cp:lastModifiedBy>
  <dcterms:modified xsi:type="dcterms:W3CDTF">2007-12-08T09:46:24Z</dcterms:modified>
  <cp:revision>6</cp:revision>
  <dc:subject/>
  <dc:title>"If your ex runs away with your kids, do you know what you can do about it?”  -Almost nothing.</dc:title>
</cp:coreProperties>
</file>