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F50-D236-49E1-9DE0-F1AAEB20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84C-DBA5-4AE4-A489-69A3D82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B86-7FD5-498E-96B9-B3732E54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006-E0EE-4426-8ACF-C3A87AA0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B83-2FBD-4776-9929-90AA858C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92C6-7FCB-4B9A-BBAB-8AB0A31C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DE10-F31D-4E52-B474-269BA421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3CB0-CBA3-434E-9E65-FACF4DD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AC9D-2A00-4D72-A047-F0CD612E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C897-FF91-45EF-A3F5-6F40854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1F0A-3252-4F52-B3C6-50D87428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D19-38AE-4676-9648-D924B6FC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B7DA-682F-48C8-A0C9-45BFA9F0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F10-A81A-400C-92CF-7BFF960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4054-F702-4C7B-9767-A0132E81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954C-EFBA-46D1-9633-46A407FA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0BDF-7026-4AD5-A5E7-08D9E5E3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B64-FB9F-4FD2-93A4-DABAF876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48D-1179-4A15-AA64-EA66E294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AE6-2550-4A47-9843-960A399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17A-267C-449E-B360-C508BEBB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455-0587-4E6A-87DE-5A3379A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083-A515-4F54-8ACE-990586D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C05-21EC-41EC-BF59-52AD402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ABF3-937A-40B3-86B4-1334A7BC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7F4-9012-45C1-AAA6-07134EFD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dave@fortakaandmana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312"/>
                </a:solidFill>
                <a:latin typeface="Arial"/>
              </a:rPr>
              <a:t>"If your ex runs away with your kids, do you know what you can do about it?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312"/>
                </a:solidFill>
                <a:latin typeface="Arial"/>
              </a:rPr>
              <a:t>-Almost nothing.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 child abduction occurs with alarming frequency in Jap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support a film that examines the 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0962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Chalkboard"/>
              </a:rPr>
              <a:t>Fundraiser in December!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Chalkboard"/>
              </a:rPr>
              <a:t>Please join, contribute to the film and learn more.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n: Tue. December 11th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re: Pink Cow restaurant Shibu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http://www.thepinkcow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ice: 10,000 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vent: Presentations from experts, Audio/Visual presentation, Discu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eautiful Buffet dinner with 2 dr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ntact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dave@fortakaandman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ebsite: 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ww.fortakaandmana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ave and Mat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became involved i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and plan fo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5116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rail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eve Christi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time Steve Christi met his son Kento for an hour in a courthouse in Osaka. How difficult it was to get and the limits placed on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: 1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47840" y="1981080"/>
            <a:ext cx="2846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bito Arudou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bout racial discrimination in Japanese  courts, concentrating on civil courts if you c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 1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97280" y="1981080"/>
            <a:ext cx="154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lin Jon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how Japanese people get treated in Japanese courts - not just a foreigner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how “maintaining status quo” and docket clearing are major reasons Japanese courts are the way they 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 1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aulo Marqu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bout the day he was reunified with his dau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feels to have Elena back in his life and how they are doing after almost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: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railer agai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is never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: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im McRa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bout PAS and effects of abduction on the children caught in the midd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time: 10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6:07:27Z</dcterms:created>
  <dc:creator>David Hearn</dc:creator>
  <dc:description/>
  <dc:language>en-US</dc:language>
  <cp:lastModifiedBy>Arudou  Debito</cp:lastModifiedBy>
  <dcterms:modified xsi:type="dcterms:W3CDTF">2007-12-08T09:46:24Z</dcterms:modified>
  <cp:revision>6</cp:revision>
  <dc:subject/>
  <dc:title>"If your ex runs away with your kids, do you know what you can do about it?”  -Almost nothing.</dc:title>
</cp:coreProperties>
</file>