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7358FF-D11D-4D4B-AC5E-E3EE210ED4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7"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D8AC1E-8DD8-4D36-801A-C04F681714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0"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F3B78B-81FE-49F6-BFC9-22F9F6C160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5"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BDE90F-F6CF-4877-871E-D021B4B836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3857E6-84CC-4AAF-AB97-073CB07C03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7"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6023B2-E00D-4350-985B-5A9B83F216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9"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0B1F69-0670-4ADD-9915-4B68896310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1"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D15346-E120-4EDA-9D35-6CA6CDB7CB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3300B6-17C8-4D87-B84F-D66C2E4E85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27900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9E9C31-1BA3-4959-B9C9-55CB713F6D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894C1C-94B5-4F1F-8F26-685213FD27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6"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8E3128-1510-4DB9-BE46-C540896983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80"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D25AD8-D48F-49F0-9B19-BC62ABED1A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84"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EAEE83-7875-483E-BF71-20FEEA0E0B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88"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FAB9B2-AF2E-4899-B7E7-5AEBA06C4C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91"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31D5B5-2A97-4C0C-A861-A9D1E756E9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96"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2579E7-B4CE-4958-88FA-532DCCE0C5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8"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2AF5C9-8A78-4C2F-AE74-9F489E5F79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0"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37DAAB-132A-45BA-A7C4-D132785DE1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B8608E-09CA-46AE-B08A-76870141EA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27900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717001-A5E8-4846-ADB5-3F96371BFE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5"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EC1F1B-7920-43A4-BD66-865F59BDBB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9"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88BD75-4C35-4EC0-B6CE-109D1D0613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3"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7CF62C-7D2A-4C83-8827-49B310BDF6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0"/>
              <a:ext cx="9144000" cy="556272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 name=""/>
            <p:cNvGrpSpPr/>
            <p:nvPr/>
          </p:nvGrpSpPr>
          <p:grpSpPr>
            <a:xfrm>
              <a:off x="0" y="5562720"/>
              <a:ext cx="9144000" cy="1295280"/>
              <a:chOff x="0" y="5562720"/>
              <a:chExt cx="9144000" cy="1295280"/>
            </a:xfrm>
          </p:grpSpPr>
          <p:sp>
            <p:nvSpPr>
              <p:cNvPr id="3" name=""/>
              <p:cNvSpPr/>
              <p:nvPr/>
            </p:nvSpPr>
            <p:spPr>
              <a:xfrm>
                <a:off x="0" y="5562720"/>
                <a:ext cx="9144000" cy="533160"/>
              </a:xfrm>
              <a:prstGeom prst="rect">
                <a:avLst/>
              </a:prstGeom>
              <a:gradFill rotWithShape="0">
                <a:gsLst>
                  <a:gs pos="0">
                    <a:srgbClr val="ffffff"/>
                  </a:gs>
                  <a:gs pos="100000">
                    <a:srgbClr val="82b5ca"/>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0" y="6095880"/>
                <a:ext cx="9144000" cy="762120"/>
              </a:xfrm>
              <a:prstGeom prst="rect">
                <a:avLst/>
              </a:prstGeom>
              <a:gradFill rotWithShape="0">
                <a:gsLst>
                  <a:gs pos="0">
                    <a:srgbClr val="82b5ca"/>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 name=""/>
              <p:cNvGrpSpPr/>
              <p:nvPr/>
            </p:nvGrpSpPr>
            <p:grpSpPr>
              <a:xfrm>
                <a:off x="6477120" y="5749920"/>
                <a:ext cx="2666880" cy="1108080"/>
                <a:chOff x="6477120" y="5749920"/>
                <a:chExt cx="2666880" cy="1108080"/>
              </a:xfrm>
            </p:grpSpPr>
            <p:sp>
              <p:nvSpPr>
                <p:cNvPr id="6" name=""/>
                <p:cNvSpPr/>
                <p:nvPr/>
              </p:nvSpPr>
              <p:spPr>
                <a:xfrm>
                  <a:off x="6499080" y="5749920"/>
                  <a:ext cx="2644920" cy="1108080"/>
                </a:xfrm>
                <a:custGeom>
                  <a:avLst/>
                  <a:gdLst/>
                  <a:ahLst/>
                  <a:rect l="l" t="t" r="r" b="b"/>
                  <a:pathLst>
                    <a:path w="1666" h="698">
                      <a:moveTo>
                        <a:pt x="0" y="698"/>
                      </a:moveTo>
                      <a:lnTo>
                        <a:pt x="458" y="436"/>
                      </a:lnTo>
                      <a:lnTo>
                        <a:pt x="744" y="214"/>
                      </a:lnTo>
                      <a:lnTo>
                        <a:pt x="910" y="46"/>
                      </a:lnTo>
                      <a:lnTo>
                        <a:pt x="944" y="10"/>
                      </a:lnTo>
                      <a:lnTo>
                        <a:pt x="974" y="0"/>
                      </a:lnTo>
                      <a:lnTo>
                        <a:pt x="1008" y="2"/>
                      </a:lnTo>
                      <a:lnTo>
                        <a:pt x="1038" y="15"/>
                      </a:lnTo>
                      <a:lnTo>
                        <a:pt x="1110" y="164"/>
                      </a:lnTo>
                      <a:lnTo>
                        <a:pt x="1214" y="292"/>
                      </a:lnTo>
                      <a:lnTo>
                        <a:pt x="1480" y="482"/>
                      </a:lnTo>
                      <a:lnTo>
                        <a:pt x="1666" y="600"/>
                      </a:lnTo>
                      <a:lnTo>
                        <a:pt x="1666" y="698"/>
                      </a:lnTo>
                      <a:lnTo>
                        <a:pt x="0" y="698"/>
                      </a:lnTo>
                      <a:close/>
                    </a:path>
                  </a:pathLst>
                </a:custGeom>
                <a:gradFill rotWithShape="0">
                  <a:gsLst>
                    <a:gs pos="0">
                      <a:srgbClr val="fefefe"/>
                    </a:gs>
                    <a:gs pos="50000">
                      <a:srgbClr val="bca392"/>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7" name=""/>
                <p:cNvGrpSpPr/>
                <p:nvPr/>
              </p:nvGrpSpPr>
              <p:grpSpPr>
                <a:xfrm>
                  <a:off x="6477120" y="5783400"/>
                  <a:ext cx="2666880" cy="988920"/>
                  <a:chOff x="6477120" y="5783400"/>
                  <a:chExt cx="2666880" cy="988920"/>
                </a:xfrm>
              </p:grpSpPr>
              <p:sp>
                <p:nvSpPr>
                  <p:cNvPr id="8" name=""/>
                  <p:cNvSpPr/>
                  <p:nvPr/>
                </p:nvSpPr>
                <p:spPr>
                  <a:xfrm>
                    <a:off x="8156520" y="5783400"/>
                    <a:ext cx="987480" cy="969840"/>
                  </a:xfrm>
                  <a:custGeom>
                    <a:avLst/>
                    <a:gdLst/>
                    <a:ahLst/>
                    <a:rect l="l" t="t" r="r" b="b"/>
                    <a:pathLst>
                      <a:path w="622" h="611">
                        <a:moveTo>
                          <a:pt x="134" y="255"/>
                        </a:moveTo>
                        <a:lnTo>
                          <a:pt x="224" y="341"/>
                        </a:lnTo>
                        <a:lnTo>
                          <a:pt x="322" y="418"/>
                        </a:lnTo>
                        <a:lnTo>
                          <a:pt x="328" y="425"/>
                        </a:lnTo>
                        <a:lnTo>
                          <a:pt x="335" y="431"/>
                        </a:lnTo>
                        <a:lnTo>
                          <a:pt x="349" y="443"/>
                        </a:lnTo>
                        <a:lnTo>
                          <a:pt x="399" y="478"/>
                        </a:lnTo>
                        <a:lnTo>
                          <a:pt x="562" y="577"/>
                        </a:lnTo>
                        <a:lnTo>
                          <a:pt x="598" y="595"/>
                        </a:lnTo>
                        <a:lnTo>
                          <a:pt x="622" y="611"/>
                        </a:lnTo>
                        <a:lnTo>
                          <a:pt x="622" y="547"/>
                        </a:lnTo>
                        <a:lnTo>
                          <a:pt x="590" y="531"/>
                        </a:lnTo>
                        <a:lnTo>
                          <a:pt x="501" y="467"/>
                        </a:lnTo>
                        <a:lnTo>
                          <a:pt x="477" y="452"/>
                        </a:lnTo>
                        <a:lnTo>
                          <a:pt x="464" y="445"/>
                        </a:lnTo>
                        <a:lnTo>
                          <a:pt x="458" y="443"/>
                        </a:lnTo>
                        <a:lnTo>
                          <a:pt x="452" y="441"/>
                        </a:lnTo>
                        <a:lnTo>
                          <a:pt x="214" y="276"/>
                        </a:lnTo>
                        <a:lnTo>
                          <a:pt x="115" y="181"/>
                        </a:lnTo>
                        <a:lnTo>
                          <a:pt x="69" y="125"/>
                        </a:lnTo>
                        <a:lnTo>
                          <a:pt x="30" y="64"/>
                        </a:lnTo>
                        <a:lnTo>
                          <a:pt x="9" y="21"/>
                        </a:lnTo>
                        <a:lnTo>
                          <a:pt x="3" y="7"/>
                        </a:lnTo>
                        <a:lnTo>
                          <a:pt x="2" y="4"/>
                        </a:lnTo>
                        <a:lnTo>
                          <a:pt x="1" y="1"/>
                        </a:lnTo>
                        <a:lnTo>
                          <a:pt x="1"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1"/>
                        </a:lnTo>
                        <a:lnTo>
                          <a:pt x="0" y="1"/>
                        </a:lnTo>
                        <a:lnTo>
                          <a:pt x="1" y="2"/>
                        </a:lnTo>
                        <a:lnTo>
                          <a:pt x="1" y="3"/>
                        </a:lnTo>
                        <a:lnTo>
                          <a:pt x="5" y="15"/>
                        </a:lnTo>
                        <a:lnTo>
                          <a:pt x="23" y="65"/>
                        </a:lnTo>
                        <a:lnTo>
                          <a:pt x="52" y="129"/>
                        </a:lnTo>
                        <a:lnTo>
                          <a:pt x="87" y="190"/>
                        </a:lnTo>
                        <a:lnTo>
                          <a:pt x="109" y="224"/>
                        </a:lnTo>
                        <a:lnTo>
                          <a:pt x="134" y="255"/>
                        </a:lnTo>
                        <a:close/>
                      </a:path>
                    </a:pathLst>
                  </a:custGeom>
                  <a:gradFill rotWithShape="0">
                    <a:gsLst>
                      <a:gs pos="0">
                        <a:srgbClr val="fefefe"/>
                      </a:gs>
                      <a:gs pos="100000">
                        <a:srgbClr val="6b56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6477120" y="5834160"/>
                    <a:ext cx="1455480" cy="938160"/>
                  </a:xfrm>
                  <a:custGeom>
                    <a:avLst/>
                    <a:gdLst/>
                    <a:ahLst/>
                    <a:rect l="l" t="t" r="r" b="b"/>
                    <a:pathLst>
                      <a:path w="3410" h="2056">
                        <a:moveTo>
                          <a:pt x="2643" y="605"/>
                        </a:moveTo>
                        <a:lnTo>
                          <a:pt x="1932" y="1087"/>
                        </a:lnTo>
                        <a:lnTo>
                          <a:pt x="1896" y="1099"/>
                        </a:lnTo>
                        <a:lnTo>
                          <a:pt x="1860" y="1115"/>
                        </a:lnTo>
                        <a:lnTo>
                          <a:pt x="1793" y="1151"/>
                        </a:lnTo>
                        <a:lnTo>
                          <a:pt x="1572" y="1272"/>
                        </a:lnTo>
                        <a:lnTo>
                          <a:pt x="912" y="1615"/>
                        </a:lnTo>
                        <a:lnTo>
                          <a:pt x="572" y="1700"/>
                        </a:lnTo>
                        <a:lnTo>
                          <a:pt x="240" y="1814"/>
                        </a:lnTo>
                        <a:lnTo>
                          <a:pt x="152" y="1853"/>
                        </a:lnTo>
                        <a:lnTo>
                          <a:pt x="113" y="1868"/>
                        </a:lnTo>
                        <a:lnTo>
                          <a:pt x="75" y="1884"/>
                        </a:lnTo>
                        <a:lnTo>
                          <a:pt x="58" y="1895"/>
                        </a:lnTo>
                        <a:lnTo>
                          <a:pt x="43" y="1907"/>
                        </a:lnTo>
                        <a:lnTo>
                          <a:pt x="36" y="1914"/>
                        </a:lnTo>
                        <a:lnTo>
                          <a:pt x="29" y="1922"/>
                        </a:lnTo>
                        <a:lnTo>
                          <a:pt x="23" y="1931"/>
                        </a:lnTo>
                        <a:lnTo>
                          <a:pt x="17" y="1942"/>
                        </a:lnTo>
                        <a:lnTo>
                          <a:pt x="8" y="1964"/>
                        </a:lnTo>
                        <a:lnTo>
                          <a:pt x="0" y="1988"/>
                        </a:lnTo>
                        <a:lnTo>
                          <a:pt x="18" y="2003"/>
                        </a:lnTo>
                        <a:lnTo>
                          <a:pt x="38" y="2016"/>
                        </a:lnTo>
                        <a:lnTo>
                          <a:pt x="59" y="2026"/>
                        </a:lnTo>
                        <a:lnTo>
                          <a:pt x="80" y="2034"/>
                        </a:lnTo>
                        <a:lnTo>
                          <a:pt x="125" y="2046"/>
                        </a:lnTo>
                        <a:lnTo>
                          <a:pt x="171" y="2051"/>
                        </a:lnTo>
                        <a:lnTo>
                          <a:pt x="213" y="2051"/>
                        </a:lnTo>
                        <a:lnTo>
                          <a:pt x="234" y="2053"/>
                        </a:lnTo>
                        <a:lnTo>
                          <a:pt x="255" y="2056"/>
                        </a:lnTo>
                        <a:lnTo>
                          <a:pt x="462" y="2031"/>
                        </a:lnTo>
                        <a:lnTo>
                          <a:pt x="665" y="1983"/>
                        </a:lnTo>
                        <a:lnTo>
                          <a:pt x="894" y="1901"/>
                        </a:lnTo>
                        <a:lnTo>
                          <a:pt x="1289" y="1725"/>
                        </a:lnTo>
                        <a:lnTo>
                          <a:pt x="1544" y="1584"/>
                        </a:lnTo>
                        <a:lnTo>
                          <a:pt x="1607" y="1545"/>
                        </a:lnTo>
                        <a:lnTo>
                          <a:pt x="1636" y="1522"/>
                        </a:lnTo>
                        <a:lnTo>
                          <a:pt x="1650" y="1509"/>
                        </a:lnTo>
                        <a:lnTo>
                          <a:pt x="1663" y="1497"/>
                        </a:lnTo>
                        <a:lnTo>
                          <a:pt x="2545" y="866"/>
                        </a:lnTo>
                        <a:lnTo>
                          <a:pt x="3052" y="423"/>
                        </a:lnTo>
                        <a:lnTo>
                          <a:pt x="3339" y="108"/>
                        </a:lnTo>
                        <a:lnTo>
                          <a:pt x="3398" y="27"/>
                        </a:lnTo>
                        <a:lnTo>
                          <a:pt x="3406" y="14"/>
                        </a:lnTo>
                        <a:lnTo>
                          <a:pt x="3408" y="9"/>
                        </a:lnTo>
                        <a:lnTo>
                          <a:pt x="3410" y="6"/>
                        </a:lnTo>
                        <a:lnTo>
                          <a:pt x="3410" y="5"/>
                        </a:lnTo>
                        <a:lnTo>
                          <a:pt x="3410" y="3"/>
                        </a:lnTo>
                        <a:lnTo>
                          <a:pt x="3410" y="2"/>
                        </a:lnTo>
                        <a:lnTo>
                          <a:pt x="3410" y="2"/>
                        </a:lnTo>
                        <a:lnTo>
                          <a:pt x="3410" y="1"/>
                        </a:lnTo>
                        <a:lnTo>
                          <a:pt x="3410" y="1"/>
                        </a:lnTo>
                        <a:lnTo>
                          <a:pt x="3410" y="1"/>
                        </a:lnTo>
                        <a:lnTo>
                          <a:pt x="3410" y="1"/>
                        </a:lnTo>
                        <a:lnTo>
                          <a:pt x="3410" y="1"/>
                        </a:lnTo>
                        <a:lnTo>
                          <a:pt x="3410" y="0"/>
                        </a:lnTo>
                        <a:lnTo>
                          <a:pt x="3410" y="0"/>
                        </a:lnTo>
                        <a:lnTo>
                          <a:pt x="3410" y="0"/>
                        </a:lnTo>
                        <a:lnTo>
                          <a:pt x="3409" y="0"/>
                        </a:lnTo>
                        <a:lnTo>
                          <a:pt x="3409" y="0"/>
                        </a:lnTo>
                        <a:lnTo>
                          <a:pt x="3409" y="0"/>
                        </a:lnTo>
                        <a:lnTo>
                          <a:pt x="3409" y="0"/>
                        </a:lnTo>
                        <a:lnTo>
                          <a:pt x="3409" y="0"/>
                        </a:lnTo>
                        <a:lnTo>
                          <a:pt x="3409" y="0"/>
                        </a:lnTo>
                        <a:lnTo>
                          <a:pt x="3408" y="0"/>
                        </a:lnTo>
                        <a:lnTo>
                          <a:pt x="3408" y="0"/>
                        </a:lnTo>
                        <a:lnTo>
                          <a:pt x="3407" y="0"/>
                        </a:lnTo>
                        <a:lnTo>
                          <a:pt x="3406" y="1"/>
                        </a:lnTo>
                        <a:lnTo>
                          <a:pt x="3404" y="1"/>
                        </a:lnTo>
                        <a:lnTo>
                          <a:pt x="3401" y="3"/>
                        </a:lnTo>
                        <a:lnTo>
                          <a:pt x="3394" y="10"/>
                        </a:lnTo>
                        <a:lnTo>
                          <a:pt x="3349" y="48"/>
                        </a:lnTo>
                        <a:lnTo>
                          <a:pt x="3154" y="217"/>
                        </a:lnTo>
                        <a:lnTo>
                          <a:pt x="2643" y="605"/>
                        </a:lnTo>
                        <a:close/>
                      </a:path>
                    </a:pathLst>
                  </a:custGeom>
                  <a:gradFill rotWithShape="0">
                    <a:gsLst>
                      <a:gs pos="0">
                        <a:srgbClr val="6b5653"/>
                      </a:gs>
                      <a:gs pos="100000">
                        <a:srgbClr val="fefefe"/>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sp>
        <p:nvSpPr>
          <p:cNvPr id="10" name="PlaceHolder 1"/>
          <p:cNvSpPr>
            <a:spLocks noGrp="1"/>
          </p:cNvSpPr>
          <p:nvPr>
            <p:ph type="title"/>
          </p:nvPr>
        </p:nvSpPr>
        <p:spPr>
          <a:xfrm>
            <a:off x="457200" y="27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11" name="PlaceHolder 2"/>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Clr>
                <a:srgbClr val="82b5c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 name="PlaceHolder 3"/>
          <p:cNvSpPr>
            <a:spLocks noGrp="1"/>
          </p:cNvSpPr>
          <p:nvPr>
            <p:ph type="dt" idx="1"/>
          </p:nvPr>
        </p:nvSpPr>
        <p:spPr>
          <a:xfrm>
            <a:off x="4572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b5653"/>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b5653"/>
                </a:solidFill>
                <a:latin typeface="Times New Roman"/>
              </a:rPr>
              <a:t>&lt;date/time&gt;</a:t>
            </a:r>
            <a:endParaRPr b="0" lang="en-US" sz="1400" spc="-1" strike="noStrike">
              <a:solidFill>
                <a:srgbClr val="000000"/>
              </a:solidFill>
              <a:latin typeface="Times New Roman"/>
            </a:endParaRPr>
          </a:p>
        </p:txBody>
      </p:sp>
      <p:sp>
        <p:nvSpPr>
          <p:cNvPr id="1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b5653"/>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b5653"/>
                </a:solidFill>
                <a:latin typeface="Times New Roman"/>
              </a:rPr>
              <a:t>&lt;footer&gt;</a:t>
            </a:r>
            <a:endParaRPr b="0" lang="en-US" sz="1400" spc="-1" strike="noStrike">
              <a:solidFill>
                <a:srgbClr val="000000"/>
              </a:solidFill>
              <a:latin typeface="Times New Roman"/>
            </a:endParaRPr>
          </a:p>
        </p:txBody>
      </p:sp>
      <p:sp>
        <p:nvSpPr>
          <p:cNvPr id="14"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b5653"/>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82DD5-4436-4A3C-B382-F3628CB28C24}" type="slidenum">
              <a:rPr b="0" lang="en-US" sz="1400" spc="-1" strike="noStrike">
                <a:solidFill>
                  <a:srgbClr val="6b5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9144000" cy="480060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4800600"/>
              <a:ext cx="9144000" cy="2057400"/>
              <a:chOff x="0" y="4800600"/>
              <a:chExt cx="9144000" cy="2057400"/>
            </a:xfrm>
          </p:grpSpPr>
          <p:sp>
            <p:nvSpPr>
              <p:cNvPr id="54" name=""/>
              <p:cNvSpPr/>
              <p:nvPr/>
            </p:nvSpPr>
            <p:spPr>
              <a:xfrm>
                <a:off x="0" y="4800600"/>
                <a:ext cx="9144000" cy="533520"/>
              </a:xfrm>
              <a:prstGeom prst="rect">
                <a:avLst/>
              </a:prstGeom>
              <a:gradFill rotWithShape="0">
                <a:gsLst>
                  <a:gs pos="0">
                    <a:srgbClr val="ffffff"/>
                  </a:gs>
                  <a:gs pos="100000">
                    <a:srgbClr val="82b5ca"/>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0" y="5334120"/>
                <a:ext cx="9144000" cy="1523880"/>
              </a:xfrm>
              <a:prstGeom prst="rect">
                <a:avLst/>
              </a:prstGeom>
              <a:gradFill rotWithShape="0">
                <a:gsLst>
                  <a:gs pos="0">
                    <a:srgbClr val="82b5ca"/>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6" name=""/>
              <p:cNvGrpSpPr/>
              <p:nvPr/>
            </p:nvGrpSpPr>
            <p:grpSpPr>
              <a:xfrm>
                <a:off x="4648320" y="5105520"/>
                <a:ext cx="4494960" cy="1752120"/>
                <a:chOff x="4648320" y="5105520"/>
                <a:chExt cx="4494960" cy="1752120"/>
              </a:xfrm>
            </p:grpSpPr>
            <p:sp>
              <p:nvSpPr>
                <p:cNvPr id="57" name=""/>
                <p:cNvSpPr/>
                <p:nvPr/>
              </p:nvSpPr>
              <p:spPr>
                <a:xfrm>
                  <a:off x="4685040" y="5105520"/>
                  <a:ext cx="4458240" cy="1752120"/>
                </a:xfrm>
                <a:custGeom>
                  <a:avLst/>
                  <a:gdLst/>
                  <a:ahLst/>
                  <a:rect l="l" t="t" r="r" b="b"/>
                  <a:pathLst>
                    <a:path w="1666" h="698">
                      <a:moveTo>
                        <a:pt x="0" y="698"/>
                      </a:moveTo>
                      <a:lnTo>
                        <a:pt x="458" y="436"/>
                      </a:lnTo>
                      <a:lnTo>
                        <a:pt x="744" y="214"/>
                      </a:lnTo>
                      <a:lnTo>
                        <a:pt x="910" y="46"/>
                      </a:lnTo>
                      <a:lnTo>
                        <a:pt x="944" y="10"/>
                      </a:lnTo>
                      <a:lnTo>
                        <a:pt x="974" y="0"/>
                      </a:lnTo>
                      <a:lnTo>
                        <a:pt x="1008" y="2"/>
                      </a:lnTo>
                      <a:lnTo>
                        <a:pt x="1038" y="15"/>
                      </a:lnTo>
                      <a:lnTo>
                        <a:pt x="1110" y="164"/>
                      </a:lnTo>
                      <a:lnTo>
                        <a:pt x="1214" y="292"/>
                      </a:lnTo>
                      <a:lnTo>
                        <a:pt x="1480" y="482"/>
                      </a:lnTo>
                      <a:lnTo>
                        <a:pt x="1666" y="600"/>
                      </a:lnTo>
                      <a:lnTo>
                        <a:pt x="1666" y="698"/>
                      </a:lnTo>
                      <a:lnTo>
                        <a:pt x="0" y="698"/>
                      </a:lnTo>
                      <a:close/>
                    </a:path>
                  </a:pathLst>
                </a:custGeom>
                <a:gradFill rotWithShape="0">
                  <a:gsLst>
                    <a:gs pos="0">
                      <a:srgbClr val="fefefe"/>
                    </a:gs>
                    <a:gs pos="50000">
                      <a:srgbClr val="bca392"/>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8" name=""/>
                <p:cNvGrpSpPr/>
                <p:nvPr/>
              </p:nvGrpSpPr>
              <p:grpSpPr>
                <a:xfrm>
                  <a:off x="4648320" y="5158440"/>
                  <a:ext cx="4494600" cy="1562760"/>
                  <a:chOff x="4648320" y="5158440"/>
                  <a:chExt cx="4494600" cy="1562760"/>
                </a:xfrm>
              </p:grpSpPr>
              <p:sp>
                <p:nvSpPr>
                  <p:cNvPr id="59" name=""/>
                  <p:cNvSpPr/>
                  <p:nvPr/>
                </p:nvSpPr>
                <p:spPr>
                  <a:xfrm>
                    <a:off x="7478640" y="5158440"/>
                    <a:ext cx="1664280" cy="1532880"/>
                  </a:xfrm>
                  <a:custGeom>
                    <a:avLst/>
                    <a:gdLst/>
                    <a:ahLst/>
                    <a:rect l="l" t="t" r="r" b="b"/>
                    <a:pathLst>
                      <a:path w="622" h="611">
                        <a:moveTo>
                          <a:pt x="134" y="255"/>
                        </a:moveTo>
                        <a:lnTo>
                          <a:pt x="224" y="341"/>
                        </a:lnTo>
                        <a:lnTo>
                          <a:pt x="322" y="418"/>
                        </a:lnTo>
                        <a:lnTo>
                          <a:pt x="328" y="425"/>
                        </a:lnTo>
                        <a:lnTo>
                          <a:pt x="335" y="431"/>
                        </a:lnTo>
                        <a:lnTo>
                          <a:pt x="349" y="443"/>
                        </a:lnTo>
                        <a:lnTo>
                          <a:pt x="399" y="478"/>
                        </a:lnTo>
                        <a:lnTo>
                          <a:pt x="562" y="577"/>
                        </a:lnTo>
                        <a:lnTo>
                          <a:pt x="598" y="595"/>
                        </a:lnTo>
                        <a:lnTo>
                          <a:pt x="622" y="611"/>
                        </a:lnTo>
                        <a:lnTo>
                          <a:pt x="622" y="547"/>
                        </a:lnTo>
                        <a:lnTo>
                          <a:pt x="590" y="531"/>
                        </a:lnTo>
                        <a:lnTo>
                          <a:pt x="501" y="467"/>
                        </a:lnTo>
                        <a:lnTo>
                          <a:pt x="477" y="452"/>
                        </a:lnTo>
                        <a:lnTo>
                          <a:pt x="464" y="445"/>
                        </a:lnTo>
                        <a:lnTo>
                          <a:pt x="458" y="443"/>
                        </a:lnTo>
                        <a:lnTo>
                          <a:pt x="452" y="441"/>
                        </a:lnTo>
                        <a:lnTo>
                          <a:pt x="214" y="276"/>
                        </a:lnTo>
                        <a:lnTo>
                          <a:pt x="115" y="181"/>
                        </a:lnTo>
                        <a:lnTo>
                          <a:pt x="69" y="125"/>
                        </a:lnTo>
                        <a:lnTo>
                          <a:pt x="30" y="64"/>
                        </a:lnTo>
                        <a:lnTo>
                          <a:pt x="9" y="21"/>
                        </a:lnTo>
                        <a:lnTo>
                          <a:pt x="3" y="7"/>
                        </a:lnTo>
                        <a:lnTo>
                          <a:pt x="2" y="4"/>
                        </a:lnTo>
                        <a:lnTo>
                          <a:pt x="1" y="1"/>
                        </a:lnTo>
                        <a:lnTo>
                          <a:pt x="1"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1"/>
                        </a:lnTo>
                        <a:lnTo>
                          <a:pt x="0" y="1"/>
                        </a:lnTo>
                        <a:lnTo>
                          <a:pt x="1" y="2"/>
                        </a:lnTo>
                        <a:lnTo>
                          <a:pt x="1" y="3"/>
                        </a:lnTo>
                        <a:lnTo>
                          <a:pt x="5" y="15"/>
                        </a:lnTo>
                        <a:lnTo>
                          <a:pt x="23" y="65"/>
                        </a:lnTo>
                        <a:lnTo>
                          <a:pt x="52" y="129"/>
                        </a:lnTo>
                        <a:lnTo>
                          <a:pt x="87" y="190"/>
                        </a:lnTo>
                        <a:lnTo>
                          <a:pt x="109" y="224"/>
                        </a:lnTo>
                        <a:lnTo>
                          <a:pt x="134" y="255"/>
                        </a:lnTo>
                        <a:close/>
                      </a:path>
                    </a:pathLst>
                  </a:custGeom>
                  <a:gradFill rotWithShape="0">
                    <a:gsLst>
                      <a:gs pos="0">
                        <a:srgbClr val="fefefe"/>
                      </a:gs>
                      <a:gs pos="100000">
                        <a:srgbClr val="6b56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4648320" y="5238360"/>
                    <a:ext cx="2453040" cy="1482840"/>
                  </a:xfrm>
                  <a:custGeom>
                    <a:avLst/>
                    <a:gdLst/>
                    <a:ahLst/>
                    <a:rect l="l" t="t" r="r" b="b"/>
                    <a:pathLst>
                      <a:path w="3410" h="2056">
                        <a:moveTo>
                          <a:pt x="2643" y="605"/>
                        </a:moveTo>
                        <a:lnTo>
                          <a:pt x="1932" y="1087"/>
                        </a:lnTo>
                        <a:lnTo>
                          <a:pt x="1896" y="1099"/>
                        </a:lnTo>
                        <a:lnTo>
                          <a:pt x="1860" y="1115"/>
                        </a:lnTo>
                        <a:lnTo>
                          <a:pt x="1793" y="1151"/>
                        </a:lnTo>
                        <a:lnTo>
                          <a:pt x="1572" y="1272"/>
                        </a:lnTo>
                        <a:lnTo>
                          <a:pt x="912" y="1615"/>
                        </a:lnTo>
                        <a:lnTo>
                          <a:pt x="572" y="1700"/>
                        </a:lnTo>
                        <a:lnTo>
                          <a:pt x="240" y="1814"/>
                        </a:lnTo>
                        <a:lnTo>
                          <a:pt x="152" y="1853"/>
                        </a:lnTo>
                        <a:lnTo>
                          <a:pt x="113" y="1868"/>
                        </a:lnTo>
                        <a:lnTo>
                          <a:pt x="75" y="1884"/>
                        </a:lnTo>
                        <a:lnTo>
                          <a:pt x="58" y="1895"/>
                        </a:lnTo>
                        <a:lnTo>
                          <a:pt x="43" y="1907"/>
                        </a:lnTo>
                        <a:lnTo>
                          <a:pt x="36" y="1914"/>
                        </a:lnTo>
                        <a:lnTo>
                          <a:pt x="29" y="1922"/>
                        </a:lnTo>
                        <a:lnTo>
                          <a:pt x="23" y="1931"/>
                        </a:lnTo>
                        <a:lnTo>
                          <a:pt x="17" y="1942"/>
                        </a:lnTo>
                        <a:lnTo>
                          <a:pt x="8" y="1964"/>
                        </a:lnTo>
                        <a:lnTo>
                          <a:pt x="0" y="1988"/>
                        </a:lnTo>
                        <a:lnTo>
                          <a:pt x="18" y="2003"/>
                        </a:lnTo>
                        <a:lnTo>
                          <a:pt x="38" y="2016"/>
                        </a:lnTo>
                        <a:lnTo>
                          <a:pt x="59" y="2026"/>
                        </a:lnTo>
                        <a:lnTo>
                          <a:pt x="80" y="2034"/>
                        </a:lnTo>
                        <a:lnTo>
                          <a:pt x="125" y="2046"/>
                        </a:lnTo>
                        <a:lnTo>
                          <a:pt x="171" y="2051"/>
                        </a:lnTo>
                        <a:lnTo>
                          <a:pt x="213" y="2051"/>
                        </a:lnTo>
                        <a:lnTo>
                          <a:pt x="234" y="2053"/>
                        </a:lnTo>
                        <a:lnTo>
                          <a:pt x="255" y="2056"/>
                        </a:lnTo>
                        <a:lnTo>
                          <a:pt x="462" y="2031"/>
                        </a:lnTo>
                        <a:lnTo>
                          <a:pt x="665" y="1983"/>
                        </a:lnTo>
                        <a:lnTo>
                          <a:pt x="894" y="1901"/>
                        </a:lnTo>
                        <a:lnTo>
                          <a:pt x="1289" y="1725"/>
                        </a:lnTo>
                        <a:lnTo>
                          <a:pt x="1544" y="1584"/>
                        </a:lnTo>
                        <a:lnTo>
                          <a:pt x="1607" y="1545"/>
                        </a:lnTo>
                        <a:lnTo>
                          <a:pt x="1636" y="1522"/>
                        </a:lnTo>
                        <a:lnTo>
                          <a:pt x="1650" y="1509"/>
                        </a:lnTo>
                        <a:lnTo>
                          <a:pt x="1663" y="1497"/>
                        </a:lnTo>
                        <a:lnTo>
                          <a:pt x="2545" y="866"/>
                        </a:lnTo>
                        <a:lnTo>
                          <a:pt x="3052" y="423"/>
                        </a:lnTo>
                        <a:lnTo>
                          <a:pt x="3339" y="108"/>
                        </a:lnTo>
                        <a:lnTo>
                          <a:pt x="3398" y="27"/>
                        </a:lnTo>
                        <a:lnTo>
                          <a:pt x="3406" y="14"/>
                        </a:lnTo>
                        <a:lnTo>
                          <a:pt x="3408" y="9"/>
                        </a:lnTo>
                        <a:lnTo>
                          <a:pt x="3410" y="6"/>
                        </a:lnTo>
                        <a:lnTo>
                          <a:pt x="3410" y="5"/>
                        </a:lnTo>
                        <a:lnTo>
                          <a:pt x="3410" y="3"/>
                        </a:lnTo>
                        <a:lnTo>
                          <a:pt x="3410" y="2"/>
                        </a:lnTo>
                        <a:lnTo>
                          <a:pt x="3410" y="2"/>
                        </a:lnTo>
                        <a:lnTo>
                          <a:pt x="3410" y="1"/>
                        </a:lnTo>
                        <a:lnTo>
                          <a:pt x="3410" y="1"/>
                        </a:lnTo>
                        <a:lnTo>
                          <a:pt x="3410" y="1"/>
                        </a:lnTo>
                        <a:lnTo>
                          <a:pt x="3410" y="1"/>
                        </a:lnTo>
                        <a:lnTo>
                          <a:pt x="3410" y="1"/>
                        </a:lnTo>
                        <a:lnTo>
                          <a:pt x="3410" y="0"/>
                        </a:lnTo>
                        <a:lnTo>
                          <a:pt x="3410" y="0"/>
                        </a:lnTo>
                        <a:lnTo>
                          <a:pt x="3410" y="0"/>
                        </a:lnTo>
                        <a:lnTo>
                          <a:pt x="3409" y="0"/>
                        </a:lnTo>
                        <a:lnTo>
                          <a:pt x="3409" y="0"/>
                        </a:lnTo>
                        <a:lnTo>
                          <a:pt x="3409" y="0"/>
                        </a:lnTo>
                        <a:lnTo>
                          <a:pt x="3409" y="0"/>
                        </a:lnTo>
                        <a:lnTo>
                          <a:pt x="3409" y="0"/>
                        </a:lnTo>
                        <a:lnTo>
                          <a:pt x="3409" y="0"/>
                        </a:lnTo>
                        <a:lnTo>
                          <a:pt x="3408" y="0"/>
                        </a:lnTo>
                        <a:lnTo>
                          <a:pt x="3408" y="0"/>
                        </a:lnTo>
                        <a:lnTo>
                          <a:pt x="3407" y="0"/>
                        </a:lnTo>
                        <a:lnTo>
                          <a:pt x="3406" y="1"/>
                        </a:lnTo>
                        <a:lnTo>
                          <a:pt x="3404" y="1"/>
                        </a:lnTo>
                        <a:lnTo>
                          <a:pt x="3401" y="3"/>
                        </a:lnTo>
                        <a:lnTo>
                          <a:pt x="3394" y="10"/>
                        </a:lnTo>
                        <a:lnTo>
                          <a:pt x="3349" y="48"/>
                        </a:lnTo>
                        <a:lnTo>
                          <a:pt x="3154" y="217"/>
                        </a:lnTo>
                        <a:lnTo>
                          <a:pt x="2643" y="605"/>
                        </a:lnTo>
                        <a:close/>
                      </a:path>
                    </a:pathLst>
                  </a:custGeom>
                  <a:gradFill rotWithShape="0">
                    <a:gsLst>
                      <a:gs pos="0">
                        <a:srgbClr val="6b5653"/>
                      </a:gs>
                      <a:gs pos="100000">
                        <a:srgbClr val="fefefe"/>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sp>
        <p:nvSpPr>
          <p:cNvPr id="6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62" name="PlaceHolder 2"/>
          <p:cNvSpPr>
            <a:spLocks noGrp="1"/>
          </p:cNvSpPr>
          <p:nvPr>
            <p:ph type="dt" idx="4"/>
          </p:nvPr>
        </p:nvSpPr>
        <p:spPr>
          <a:xfrm>
            <a:off x="4572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b5653"/>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b5653"/>
                </a:solidFill>
                <a:latin typeface="Times New Roman"/>
              </a:rPr>
              <a:t>&lt;date/time&gt;</a:t>
            </a:r>
            <a:endParaRPr b="0" lang="en-US" sz="1400" spc="-1" strike="noStrike">
              <a:solidFill>
                <a:srgbClr val="000000"/>
              </a:solidFill>
              <a:latin typeface="Times New Roman"/>
            </a:endParaRPr>
          </a:p>
        </p:txBody>
      </p:sp>
      <p:sp>
        <p:nvSpPr>
          <p:cNvPr id="6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b5653"/>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b5653"/>
                </a:solidFill>
                <a:latin typeface="Times New Roman"/>
              </a:rPr>
              <a:t>&lt;footer&gt;</a:t>
            </a:r>
            <a:endParaRPr b="0" lang="en-US" sz="1400" spc="-1" strike="noStrike">
              <a:solidFill>
                <a:srgbClr val="000000"/>
              </a:solidFill>
              <a:latin typeface="Times New Roman"/>
            </a:endParaRPr>
          </a:p>
        </p:txBody>
      </p:sp>
      <p:sp>
        <p:nvSpPr>
          <p:cNvPr id="64"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b5653"/>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49A68-DCC0-4EBB-A59F-44840649D505}" type="slidenum">
              <a:rPr b="0" lang="en-US" sz="1400" spc="-1" strike="noStrike">
                <a:solidFill>
                  <a:srgbClr val="6b5653"/>
                </a:solidFill>
                <a:latin typeface="Times New Roman"/>
              </a:rPr>
              <a:t>&lt;number&gt;</a:t>
            </a:fld>
            <a:endParaRPr b="0" lang="en-US" sz="1400" spc="-1" strike="noStrike">
              <a:solidFill>
                <a:srgbClr val="000000"/>
              </a:solidFill>
              <a:latin typeface="Times New Roman"/>
            </a:endParaRPr>
          </a:p>
        </p:txBody>
      </p:sp>
      <p:sp>
        <p:nvSpPr>
          <p:cNvPr id="6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33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33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33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20280"/>
            <a:ext cx="7772400" cy="1079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3399"/>
                </a:solidFill>
                <a:latin typeface="Arial"/>
              </a:rPr>
              <a:t>Toyako Summit: A Review</a:t>
            </a:r>
            <a:endParaRPr b="0" lang="en-US" sz="4400" spc="-1" strike="noStrike">
              <a:solidFill>
                <a:srgbClr val="003399"/>
              </a:solidFill>
              <a:latin typeface="Arial"/>
            </a:endParaRPr>
          </a:p>
        </p:txBody>
      </p:sp>
      <p:sp>
        <p:nvSpPr>
          <p:cNvPr id="103" name="PlaceHolder 2"/>
          <p:cNvSpPr>
            <a:spLocks noGrp="1"/>
          </p:cNvSpPr>
          <p:nvPr>
            <p:ph type="subTitle"/>
          </p:nvPr>
        </p:nvSpPr>
        <p:spPr>
          <a:xfrm>
            <a:off x="1371600" y="2205000"/>
            <a:ext cx="6400800" cy="3960720"/>
          </a:xfrm>
          <a:prstGeom prst="rect">
            <a:avLst/>
          </a:prstGeom>
          <a:noFill/>
          <a:ln w="0">
            <a:noFill/>
          </a:ln>
        </p:spPr>
        <p:txBody>
          <a:bodyPr lIns="90000" rIns="90000" tIns="46800" bIns="46800"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y Eric Johnston</a:t>
            </a:r>
            <a:endParaRPr b="0" lang="en-US" sz="36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Deputy Editor</a:t>
            </a:r>
            <a:endParaRPr b="0" lang="en-US" sz="32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The Japan Times</a:t>
            </a:r>
            <a:endParaRPr b="0" lang="en-US" sz="3200" spc="-1" strike="noStrike">
              <a:solidFill>
                <a:srgbClr val="000000"/>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esented to:</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okkaido International Business Association</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uly 10</a:t>
            </a:r>
            <a:r>
              <a:rPr b="1" lang="en-US" sz="2800" spc="-1" strike="noStrike" baseline="30000">
                <a:solidFill>
                  <a:srgbClr val="000000"/>
                </a:solidFill>
                <a:latin typeface="Arial"/>
              </a:rPr>
              <a:t>th</a:t>
            </a:r>
            <a:r>
              <a:rPr b="1" lang="en-US" sz="2800" spc="-1" strike="noStrike">
                <a:solidFill>
                  <a:srgbClr val="000000"/>
                </a:solidFill>
                <a:latin typeface="Arial"/>
              </a:rPr>
              <a:t>, 2008</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Eric’s questions for HIBA</a:t>
            </a:r>
            <a:endParaRPr b="0" lang="en-US" sz="4400" spc="-1" strike="noStrike">
              <a:solidFill>
                <a:srgbClr val="003399"/>
              </a:solidFill>
              <a:latin typeface="Arial"/>
            </a:endParaRPr>
          </a:p>
        </p:txBody>
      </p:sp>
      <p:sp>
        <p:nvSpPr>
          <p:cNvPr id="121"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spcBef>
                <a:spcPts val="799"/>
              </a:spcBef>
              <a:buClr>
                <a:srgbClr val="82b5c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Does the Hokkaido government have a ``Post Toyako’’ plan and a budget for promoting international business, including trade and tourism. If so, is the plan being funded by Tokyo, or by local taxpayers?</a:t>
            </a:r>
            <a:endParaRPr b="0" lang="en-US" sz="3200" spc="-1" strike="noStrike">
              <a:solidFill>
                <a:srgbClr val="000000"/>
              </a:solidFill>
              <a:latin typeface="Arial"/>
            </a:endParaRPr>
          </a:p>
          <a:p>
            <a:pPr marL="343080" indent="-343080">
              <a:spcBef>
                <a:spcPts val="799"/>
              </a:spcBef>
              <a:buClr>
                <a:srgbClr val="82b5c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Is the Hokkaido Prefectural Government seriously committed to further development of the international convention and tourism industry here in Sappor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3399"/>
                </a:solidFill>
                <a:latin typeface="Arial"/>
              </a:rPr>
              <a:t>The English Media and post-Toyako Summit Hokkaido</a:t>
            </a:r>
            <a:endParaRPr b="0" lang="en-US" sz="4000" spc="-1" strike="noStrike">
              <a:solidFill>
                <a:srgbClr val="003399"/>
              </a:solidFill>
              <a:latin typeface="Arial"/>
            </a:endParaRPr>
          </a:p>
        </p:txBody>
      </p:sp>
      <p:sp>
        <p:nvSpPr>
          <p:cNvPr id="123"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lnSpc>
                <a:spcPct val="90000"/>
              </a:lnSpc>
              <a:spcBef>
                <a:spcPts val="799"/>
              </a:spcBef>
              <a:buClr>
                <a:srgbClr val="82b5c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y in the English language media are wondering about the market potential of Hokkaido, post-Summit. But we have the following concerns:</a:t>
            </a:r>
            <a:endParaRPr b="0" lang="en-US" sz="3200" spc="-1" strike="noStrike">
              <a:solidFill>
                <a:srgbClr val="000000"/>
              </a:solidFill>
              <a:latin typeface="Arial"/>
            </a:endParaRPr>
          </a:p>
          <a:p>
            <a:pPr marL="343080" indent="-343080">
              <a:lnSpc>
                <a:spcPct val="90000"/>
              </a:lnSpc>
              <a:spcBef>
                <a:spcPts val="799"/>
              </a:spcBef>
              <a:buClr>
                <a:srgbClr val="82b5c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Is there enough of a demand among visiting foreign business people here in Sapporo for an English language paper? </a:t>
            </a:r>
            <a:endParaRPr b="0" lang="en-US" sz="3200" spc="-1" strike="noStrike">
              <a:solidFill>
                <a:srgbClr val="000000"/>
              </a:solidFill>
              <a:latin typeface="Arial"/>
            </a:endParaRPr>
          </a:p>
          <a:p>
            <a:pPr marL="343080" indent="-343080">
              <a:lnSpc>
                <a:spcPct val="90000"/>
              </a:lnSpc>
              <a:spcBef>
                <a:spcPts val="799"/>
              </a:spcBef>
              <a:buClr>
                <a:srgbClr val="82b5c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How do we reach the hotels and pensions where foreigners are staying?</a:t>
            </a:r>
            <a:endParaRPr b="0" lang="en-US" sz="3200" spc="-1" strike="noStrike">
              <a:solidFill>
                <a:srgbClr val="000000"/>
              </a:solidFill>
              <a:latin typeface="Arial"/>
            </a:endParaRPr>
          </a:p>
          <a:p>
            <a:pPr marL="343080" indent="-343080">
              <a:lnSpc>
                <a:spcPct val="90000"/>
              </a:lnSpc>
              <a:spcBef>
                <a:spcPts val="799"/>
              </a:spcBef>
              <a:buClr>
                <a:srgbClr val="82b5c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What kind of local news most interests the Hokkaido foreign commun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9000"/>
            <a:ext cx="8229600" cy="437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THANK YOU!!!!!</a:t>
            </a:r>
            <a:endParaRPr b="0" lang="en-US" sz="4400" spc="-1" strike="noStrike">
              <a:solidFill>
                <a:srgbClr val="003399"/>
              </a:solidFill>
              <a:latin typeface="Arial"/>
            </a:endParaRPr>
          </a:p>
        </p:txBody>
      </p:sp>
      <p:sp>
        <p:nvSpPr>
          <p:cNvPr id="125" name="PlaceHolder 2"/>
          <p:cNvSpPr>
            <a:spLocks noGrp="1"/>
          </p:cNvSpPr>
          <p:nvPr>
            <p:ph/>
          </p:nvPr>
        </p:nvSpPr>
        <p:spPr>
          <a:xfrm>
            <a:off x="457200" y="4724280"/>
            <a:ext cx="8229600" cy="1409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3399"/>
                </a:solidFill>
                <a:latin typeface="Arial"/>
              </a:rPr>
              <a:t>The Toyako Summit: </a:t>
            </a:r>
            <a:br>
              <a:rPr sz="4000"/>
            </a:br>
            <a:r>
              <a:rPr b="0" lang="ja-JP" sz="4000" spc="-1" strike="noStrike">
                <a:solidFill>
                  <a:srgbClr val="003399"/>
                </a:solidFill>
                <a:latin typeface="Arial"/>
              </a:rPr>
              <a:t>What Happened?</a:t>
            </a:r>
            <a:endParaRPr b="0" lang="en-US" sz="4000" spc="-1" strike="noStrike">
              <a:solidFill>
                <a:srgbClr val="003399"/>
              </a:solidFill>
              <a:latin typeface="Arial"/>
            </a:endParaRPr>
          </a:p>
        </p:txBody>
      </p:sp>
      <p:sp>
        <p:nvSpPr>
          <p:cNvPr id="105"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90000"/>
              </a:lnSpc>
              <a:spcBef>
                <a:spcPts val="799"/>
              </a:spcBef>
              <a:buClr>
                <a:srgbClr val="82b5c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G-8 Leaders agreed on long term green house gas emissions reductions targets of at least 50 percent by 2050</a:t>
            </a:r>
            <a:endParaRPr b="0" lang="en-US" sz="3200" spc="-1" strike="noStrike">
              <a:solidFill>
                <a:srgbClr val="000000"/>
              </a:solidFill>
              <a:latin typeface="Arial"/>
            </a:endParaRPr>
          </a:p>
          <a:p>
            <a:pPr marL="343080" indent="-343080">
              <a:lnSpc>
                <a:spcPct val="90000"/>
              </a:lnSpc>
              <a:spcBef>
                <a:spcPts val="799"/>
              </a:spcBef>
              <a:buClr>
                <a:srgbClr val="82b5c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G-8 Leaders agreed to work to make the climate change conference in Copenhagen a success.</a:t>
            </a:r>
            <a:endParaRPr b="0" lang="en-US" sz="3200" spc="-1" strike="noStrike">
              <a:solidFill>
                <a:srgbClr val="000000"/>
              </a:solidFill>
              <a:latin typeface="Arial"/>
            </a:endParaRPr>
          </a:p>
          <a:p>
            <a:pPr marL="343080" indent="-343080">
              <a:lnSpc>
                <a:spcPct val="90000"/>
              </a:lnSpc>
              <a:spcBef>
                <a:spcPts val="799"/>
              </a:spcBef>
              <a:buClr>
                <a:srgbClr val="82b5c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G-8 Leaders promised Africa that it would would increase aid by $25 billion a year by 201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3399"/>
                </a:solidFill>
                <a:latin typeface="Arial"/>
              </a:rPr>
              <a:t>Toyako Summit: </a:t>
            </a:r>
            <a:br>
              <a:rPr sz="4000"/>
            </a:br>
            <a:r>
              <a:rPr b="0" lang="ja-JP" sz="4000" spc="-1" strike="noStrike">
                <a:solidFill>
                  <a:srgbClr val="003399"/>
                </a:solidFill>
                <a:latin typeface="Arial"/>
              </a:rPr>
              <a:t>What Didn’t Happen</a:t>
            </a:r>
            <a:endParaRPr b="0" lang="en-US" sz="4000" spc="-1" strike="noStrike">
              <a:solidFill>
                <a:srgbClr val="003399"/>
              </a:solidFill>
              <a:latin typeface="Arial"/>
            </a:endParaRPr>
          </a:p>
        </p:txBody>
      </p:sp>
      <p:sp>
        <p:nvSpPr>
          <p:cNvPr id="107" name="PlaceHolder 2"/>
          <p:cNvSpPr>
            <a:spLocks noGrp="1"/>
          </p:cNvSpPr>
          <p:nvPr>
            <p:ph/>
          </p:nvPr>
        </p:nvSpPr>
        <p:spPr>
          <a:xfrm>
            <a:off x="457200" y="1599840"/>
            <a:ext cx="8229600" cy="4924440"/>
          </a:xfrm>
          <a:prstGeom prst="rect">
            <a:avLst/>
          </a:prstGeom>
          <a:noFill/>
          <a:ln w="0">
            <a:noFill/>
          </a:ln>
        </p:spPr>
        <p:txBody>
          <a:bodyPr lIns="90000" rIns="90000" tIns="46800" bIns="46800" anchor="t">
            <a:normAutofit/>
          </a:bodyPr>
          <a:p>
            <a:pPr marL="343080" indent="-343080">
              <a:lnSpc>
                <a:spcPct val="90000"/>
              </a:lnSpc>
              <a:spcBef>
                <a:spcPts val="799"/>
              </a:spcBef>
              <a:buClr>
                <a:srgbClr val="82b5c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8 Leaders failed to commit to the specific recommendation by climatologists of cutting greenhouse gases between 25 and 40 percent by 2020 in order to avert a global climate catastrophe after that.</a:t>
            </a:r>
            <a:endParaRPr b="0" lang="en-US" sz="3200" spc="-1" strike="noStrike">
              <a:solidFill>
                <a:srgbClr val="000000"/>
              </a:solidFill>
              <a:latin typeface="Arial"/>
            </a:endParaRPr>
          </a:p>
          <a:p>
            <a:pPr marL="343080" indent="-343080">
              <a:lnSpc>
                <a:spcPct val="90000"/>
              </a:lnSpc>
              <a:spcBef>
                <a:spcPts val="799"/>
              </a:spcBef>
              <a:buClr>
                <a:srgbClr val="82b5c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8 Leaders failed explain how they would deliver on their aid promises made to Africa since 2005, and how they would take responsibility for ensuring the money was accounted fo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3399"/>
                </a:solidFill>
                <a:latin typeface="Arial"/>
              </a:rPr>
              <a:t>The Toyako Agenda</a:t>
            </a:r>
            <a:endParaRPr b="0" lang="en-US" sz="4400" spc="-1" strike="noStrike">
              <a:solidFill>
                <a:srgbClr val="003399"/>
              </a:solidFill>
              <a:latin typeface="Arial"/>
            </a:endParaRPr>
          </a:p>
        </p:txBody>
      </p:sp>
      <p:sp>
        <p:nvSpPr>
          <p:cNvPr id="109" name="PlaceHolder 2"/>
          <p:cNvSpPr>
            <a:spLocks noGrp="1"/>
          </p:cNvSpPr>
          <p:nvPr>
            <p:ph/>
          </p:nvPr>
        </p:nvSpPr>
        <p:spPr>
          <a:xfrm>
            <a:off x="457200" y="1599840"/>
            <a:ext cx="8362800" cy="4924440"/>
          </a:xfrm>
          <a:prstGeom prst="rect">
            <a:avLst/>
          </a:prstGeom>
          <a:noFill/>
          <a:ln w="0">
            <a:noFill/>
          </a:ln>
        </p:spPr>
        <p:txBody>
          <a:bodyPr lIns="90000" rIns="90000" tIns="46800" bIns="46800" anchor="t">
            <a:normAutofit/>
          </a:bodyPr>
          <a:p>
            <a:pPr marL="343080" indent="-343080">
              <a:spcBef>
                <a:spcPts val="799"/>
              </a:spcBef>
              <a:buClr>
                <a:srgbClr val="82b5c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mate Change</a:t>
            </a:r>
            <a:endParaRPr b="0" lang="en-US" sz="3200" spc="-1" strike="noStrike">
              <a:solidFill>
                <a:srgbClr val="000000"/>
              </a:solidFill>
              <a:latin typeface="Arial"/>
            </a:endParaRPr>
          </a:p>
          <a:p>
            <a:pPr marL="343080" indent="-343080">
              <a:spcBef>
                <a:spcPts val="799"/>
              </a:spcBef>
              <a:buClr>
                <a:srgbClr val="82b5c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id to Africa</a:t>
            </a:r>
            <a:endParaRPr b="0" lang="en-US" sz="3200" spc="-1" strike="noStrike">
              <a:solidFill>
                <a:srgbClr val="000000"/>
              </a:solidFill>
              <a:latin typeface="Arial"/>
            </a:endParaRPr>
          </a:p>
          <a:p>
            <a:pPr marL="343080" indent="-343080">
              <a:spcBef>
                <a:spcPts val="700"/>
              </a:spcBef>
              <a:buClr>
                <a:srgbClr val="82b5c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uclear nonproliferation </a:t>
            </a:r>
            <a:r>
              <a:rPr b="0" lang="en-US" sz="2800" spc="-1" strike="noStrike">
                <a:solidFill>
                  <a:srgbClr val="000000"/>
                </a:solidFill>
                <a:latin typeface="Arial"/>
              </a:rPr>
              <a:t>(Iran, North Korea)</a:t>
            </a:r>
            <a:endParaRPr b="0" lang="en-US" sz="2800" spc="-1" strike="noStrike">
              <a:solidFill>
                <a:srgbClr val="000000"/>
              </a:solidFill>
              <a:latin typeface="Arial"/>
            </a:endParaRPr>
          </a:p>
          <a:p>
            <a:pPr marL="343080" indent="-343080">
              <a:spcBef>
                <a:spcPts val="799"/>
              </a:spcBef>
              <a:buClr>
                <a:srgbClr val="82b5c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world food crisis</a:t>
            </a:r>
            <a:endParaRPr b="0" lang="en-US" sz="3200" spc="-1" strike="noStrike">
              <a:solidFill>
                <a:srgbClr val="000000"/>
              </a:solidFill>
              <a:latin typeface="Arial"/>
            </a:endParaRPr>
          </a:p>
          <a:p>
            <a:pPr marL="343080" indent="-343080">
              <a:spcBef>
                <a:spcPts val="799"/>
              </a:spcBef>
              <a:buClr>
                <a:srgbClr val="82b5c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rice of oil</a:t>
            </a:r>
            <a:endParaRPr b="0" lang="en-US" sz="3200" spc="-1" strike="noStrike">
              <a:solidFill>
                <a:srgbClr val="000000"/>
              </a:solidFill>
              <a:latin typeface="Arial"/>
            </a:endParaRPr>
          </a:p>
          <a:p>
            <a:pPr marL="343080" indent="-343080">
              <a:spcBef>
                <a:spcPts val="799"/>
              </a:spcBef>
              <a:buClr>
                <a:srgbClr val="82b5c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ancial markets and the world economy</a:t>
            </a:r>
            <a:endParaRPr b="0" lang="en-US" sz="3200" spc="-1" strike="noStrike">
              <a:solidFill>
                <a:srgbClr val="000000"/>
              </a:solidFill>
              <a:latin typeface="Arial"/>
            </a:endParaRPr>
          </a:p>
          <a:p>
            <a:pPr marL="343080" indent="-343080">
              <a:spcBef>
                <a:spcPts val="799"/>
              </a:spcBef>
              <a:buClr>
                <a:srgbClr val="82b5c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Zimbabw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So, was the Summit a Success?</a:t>
            </a:r>
            <a:endParaRPr b="0" lang="en-US" sz="4400" spc="-1" strike="noStrike">
              <a:solidFill>
                <a:srgbClr val="003399"/>
              </a:solidFill>
              <a:latin typeface="Arial"/>
            </a:endParaRPr>
          </a:p>
        </p:txBody>
      </p:sp>
      <p:sp>
        <p:nvSpPr>
          <p:cNvPr id="11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Clr>
                <a:srgbClr val="82b5c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ES – say the G8 Leaders, some elements of the Japanese media.</a:t>
            </a:r>
            <a:endParaRPr b="0" lang="en-US" sz="3200" spc="-1" strike="noStrike">
              <a:solidFill>
                <a:srgbClr val="000000"/>
              </a:solidFill>
              <a:latin typeface="Arial"/>
            </a:endParaRPr>
          </a:p>
          <a:p>
            <a:pPr marL="343080" indent="-343080">
              <a:spcBef>
                <a:spcPts val="799"/>
              </a:spcBef>
              <a:buClr>
                <a:srgbClr val="82b5c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 says practically everybody else</a:t>
            </a:r>
            <a:endParaRPr b="0" lang="en-US" sz="3200" spc="-1" strike="noStrike">
              <a:solidFill>
                <a:srgbClr val="000000"/>
              </a:solidFill>
              <a:latin typeface="Arial"/>
            </a:endParaRPr>
          </a:p>
          <a:p>
            <a:pPr marL="343080" indent="-343080">
              <a:spcBef>
                <a:spcPts val="799"/>
              </a:spcBef>
              <a:buClr>
                <a:srgbClr val="82b5c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 EARLY TO TELL –say the NGOs involved with poverty and development issues, especially in Africa.</a:t>
            </a:r>
            <a:endParaRPr b="0" lang="en-US" sz="3200" spc="-1" strike="noStrike">
              <a:solidFill>
                <a:srgbClr val="000000"/>
              </a:solidFill>
              <a:latin typeface="Arial"/>
            </a:endParaRPr>
          </a:p>
          <a:p>
            <a:pPr marL="343080" indent="-343080">
              <a:spcBef>
                <a:spcPts val="799"/>
              </a:spcBef>
              <a:buClr>
                <a:srgbClr val="82b5c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 OWN VIEW – It was neither a success nor a failur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Basic Problems with the Outcome</a:t>
            </a:r>
            <a:endParaRPr b="0" lang="en-US" sz="4000" spc="-1" strike="noStrike">
              <a:solidFill>
                <a:srgbClr val="003399"/>
              </a:solidFill>
              <a:latin typeface="Arial"/>
            </a:endParaRPr>
          </a:p>
        </p:txBody>
      </p:sp>
      <p:sp>
        <p:nvSpPr>
          <p:cNvPr id="113"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Clr>
                <a:srgbClr val="82b5c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 Climate Change –G-8 Leaders did not take into account the scientific evidence or the advice, presented last year by the UN, of rapid climate change and what the world needs to do. The emerging economies also failed to show political leadership and imagination, putting their own ``victim politics’’ above cooperatio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Arial"/>
              </a:rPr>
              <a:t>Basic Problems with the Outcome(2)</a:t>
            </a:r>
            <a:endParaRPr b="0" lang="en-US" sz="3800" spc="-1" strike="noStrike">
              <a:solidFill>
                <a:srgbClr val="003399"/>
              </a:solidFill>
              <a:latin typeface="Arial"/>
            </a:endParaRPr>
          </a:p>
        </p:txBody>
      </p:sp>
      <p:sp>
        <p:nvSpPr>
          <p:cNvPr id="115"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Clr>
                <a:srgbClr val="82b5c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 Africa –G-8 Leaders failed to explain or take action on how promised aid will actually be delivered. They also failed to address practical concerns on the distribution of the aid, i.e. dealing with corruption and making sure it reaches the right peopl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Basic Problems with Outcome (3) </a:t>
            </a:r>
            <a:endParaRPr b="0" lang="en-US" sz="4000" spc="-1" strike="noStrike">
              <a:solidFill>
                <a:srgbClr val="003399"/>
              </a:solidFill>
              <a:latin typeface="Arial"/>
            </a:endParaRPr>
          </a:p>
        </p:txBody>
      </p:sp>
      <p:sp>
        <p:nvSpPr>
          <p:cNvPr id="117" name="PlaceHolder 2"/>
          <p:cNvSpPr>
            <a:spLocks noGrp="1"/>
          </p:cNvSpPr>
          <p:nvPr>
            <p:ph/>
          </p:nvPr>
        </p:nvSpPr>
        <p:spPr>
          <a:xfrm>
            <a:off x="457200" y="1052280"/>
            <a:ext cx="8229600" cy="5545080"/>
          </a:xfrm>
          <a:prstGeom prst="rect">
            <a:avLst/>
          </a:prstGeom>
          <a:noFill/>
          <a:ln w="0">
            <a:noFill/>
          </a:ln>
        </p:spPr>
        <p:txBody>
          <a:bodyPr lIns="90000" rIns="90000" tIns="46800" bIns="46800" anchor="t">
            <a:normAutofit/>
          </a:bodyPr>
          <a:p>
            <a:pPr marL="343080" indent="-343080">
              <a:spcBef>
                <a:spcPts val="601"/>
              </a:spcBef>
              <a:buClr>
                <a:srgbClr val="82b5c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There is, in effect, very little the G-8 can do to deal with the rising price of oil. Past statements have done absolutely nothing to stem the rise of oil prices, which are being driven by oil speculators.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82b5c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The G-8’s energy policy promotes controversial fuels like biofuel and nuclear power, even as the leaders tacitly acknowledge biofuels are at least partially responsible for the current food crisis. They have no real answer to increased nuclear power leading to increased proliferation</a:t>
            </a:r>
            <a:r>
              <a:rPr b="0" lang="ja-JP"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3399"/>
                </a:solidFill>
                <a:latin typeface="Arial"/>
              </a:rPr>
              <a:t>Part II: Hokkaido and the </a:t>
            </a:r>
            <a:br>
              <a:rPr sz="4000"/>
            </a:br>
            <a:r>
              <a:rPr b="0" lang="ja-JP" sz="4000" spc="-1" strike="noStrike">
                <a:solidFill>
                  <a:srgbClr val="003399"/>
                </a:solidFill>
                <a:latin typeface="Arial"/>
              </a:rPr>
              <a:t>Toyako Summit</a:t>
            </a:r>
            <a:endParaRPr b="0" lang="en-US" sz="4000" spc="-1" strike="noStrike">
              <a:solidFill>
                <a:srgbClr val="003399"/>
              </a:solidFill>
              <a:latin typeface="Arial"/>
            </a:endParaRPr>
          </a:p>
        </p:txBody>
      </p:sp>
      <p:sp>
        <p:nvSpPr>
          <p:cNvPr id="119"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a:bodyPr>
          <a:p>
            <a:pPr marL="343080" indent="-343080">
              <a:lnSpc>
                <a:spcPct val="80000"/>
              </a:lnSpc>
              <a:spcBef>
                <a:spcPts val="601"/>
              </a:spcBef>
              <a:buClr>
                <a:srgbClr val="82b5c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Some media reports in Tokyo/Osaka said the economic impact of the Hokkaido summit would be as much as 60 billion yen –which is the estimated total cost of the summit.</a:t>
            </a:r>
            <a:endParaRPr b="0" lang="en-US" sz="2400" spc="-1" strike="noStrike">
              <a:solidFill>
                <a:srgbClr val="000000"/>
              </a:solidFill>
              <a:latin typeface="Arial"/>
            </a:endParaRPr>
          </a:p>
          <a:p>
            <a:pPr marL="343080" indent="-343080">
              <a:lnSpc>
                <a:spcPct val="80000"/>
              </a:lnSpc>
              <a:spcBef>
                <a:spcPts val="601"/>
              </a:spcBef>
              <a:buClr>
                <a:srgbClr val="82b5c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A sense of resignation among those living in the Toyako area that a few would benefit but most would not.</a:t>
            </a:r>
            <a:endParaRPr b="0" lang="en-US" sz="2400" spc="-1" strike="noStrike">
              <a:solidFill>
                <a:srgbClr val="000000"/>
              </a:solidFill>
              <a:latin typeface="Arial"/>
            </a:endParaRPr>
          </a:p>
          <a:p>
            <a:pPr marL="343080" indent="-343080">
              <a:lnSpc>
                <a:spcPct val="80000"/>
              </a:lnSpc>
              <a:spcBef>
                <a:spcPts val="601"/>
              </a:spcBef>
              <a:buClr>
                <a:srgbClr val="82b5c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A sense of déjà vu among people in other parts of Japan when they heard stories about how the central government promised Hokkaido citizens that they would play and active role in the summit preparations, only to see Tokyo move in and shut out local merchants.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10T08:31:51Z</dcterms:created>
  <dc:creator> </dc:creator>
  <dc:description/>
  <dc:language>en-US</dc:language>
  <cp:lastModifiedBy> </cp:lastModifiedBy>
  <dcterms:modified xsi:type="dcterms:W3CDTF">2008-07-11T02:12:13Z</dcterms:modified>
  <cp:revision>11</cp:revision>
  <dc:subject/>
  <dc:title>Toyako Summit: A Review</dc:title>
</cp:coreProperties>
</file>