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CC132-8974-40E6-85C4-C6F526026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4A3C-8F8D-4A99-892A-1547B222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CCFA7-EF5D-41F9-9D5C-947D536DE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C041E-EF3C-4E36-B1C2-10341A8F1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715BB-74E9-4451-8007-AF3523ECB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D54E2-A981-4B3E-9701-BD9CEEC08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78348-DF7A-4ABD-ABA7-03892F56C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FFDF5-E9C6-4D71-A389-332816C6A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AD1EF-F49B-4D17-B99A-0A28824BB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3A890-7604-412C-998E-D473DEF7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C864F-B40A-4A90-BBE0-D4530C937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C2A26-BFB1-43FB-BBCA-EEBAF74A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7DD20-3CB5-4D4F-A749-DB2B7C20F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E2E39-8B3A-4631-9426-18EAD7FE1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7568E-2CAC-468A-A68E-8DA433AB6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8FFC2-CCFE-4352-B745-CB76C9BB8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27A63-E9F2-47F1-A54C-88FE406C0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5DF7-6A99-457C-9932-F355CE48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3F43-32FB-4223-A404-41D4E4F9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03AC7-062C-4638-B58F-720948932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5193-ADF6-4D1F-8971-63559BB1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D1B4-A3C1-4A9A-BE8A-2EA904F5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D729-3211-49A4-BD1B-9999E33F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8923-022F-4DBC-B294-CBF5AF615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556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0" y="5562720"/>
              <a:ext cx="9144000" cy="1295280"/>
              <a:chOff x="0" y="5562720"/>
              <a:chExt cx="9144000" cy="1295280"/>
            </a:xfrm>
          </p:grpSpPr>
          <p:sp>
            <p:nvSpPr>
              <p:cNvPr id="3" name=""/>
              <p:cNvSpPr/>
              <p:nvPr/>
            </p:nvSpPr>
            <p:spPr>
              <a:xfrm>
                <a:off x="0" y="5562720"/>
                <a:ext cx="9144000" cy="53316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0" y="6095880"/>
                <a:ext cx="9144000" cy="76212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 name=""/>
              <p:cNvGrpSpPr/>
              <p:nvPr/>
            </p:nvGrpSpPr>
            <p:grpSpPr>
              <a:xfrm>
                <a:off x="6477120" y="5749920"/>
                <a:ext cx="2666880" cy="1108080"/>
                <a:chOff x="6477120" y="5749920"/>
                <a:chExt cx="2666880" cy="1108080"/>
              </a:xfrm>
            </p:grpSpPr>
            <p:sp>
              <p:nvSpPr>
                <p:cNvPr id="6" name=""/>
                <p:cNvSpPr/>
                <p:nvPr/>
              </p:nvSpPr>
              <p:spPr>
                <a:xfrm>
                  <a:off x="6499080" y="5749920"/>
                  <a:ext cx="2644920" cy="110808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6477120" y="5783400"/>
                  <a:ext cx="2666880" cy="988920"/>
                  <a:chOff x="6477120" y="5783400"/>
                  <a:chExt cx="2666880" cy="988920"/>
                </a:xfrm>
              </p:grpSpPr>
              <p:sp>
                <p:nvSpPr>
                  <p:cNvPr id="8" name=""/>
                  <p:cNvSpPr/>
                  <p:nvPr/>
                </p:nvSpPr>
                <p:spPr>
                  <a:xfrm>
                    <a:off x="8156520" y="5783400"/>
                    <a:ext cx="987480" cy="96984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477120" y="5834160"/>
                    <a:ext cx="1455480" cy="93816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D4E2-1FDD-4C90-B62B-98D2A66DB087}"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914400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4800600"/>
              <a:ext cx="9144000" cy="2057400"/>
              <a:chOff x="0" y="4800600"/>
              <a:chExt cx="9144000" cy="2057400"/>
            </a:xfrm>
          </p:grpSpPr>
          <p:sp>
            <p:nvSpPr>
              <p:cNvPr id="54" name=""/>
              <p:cNvSpPr/>
              <p:nvPr/>
            </p:nvSpPr>
            <p:spPr>
              <a:xfrm>
                <a:off x="0" y="4800600"/>
                <a:ext cx="91440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5334120"/>
                <a:ext cx="91440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4648320" y="5105520"/>
                <a:ext cx="4494960" cy="1752120"/>
                <a:chOff x="4648320" y="5105520"/>
                <a:chExt cx="4494960" cy="1752120"/>
              </a:xfrm>
            </p:grpSpPr>
            <p:sp>
              <p:nvSpPr>
                <p:cNvPr id="57" name=""/>
                <p:cNvSpPr/>
                <p:nvPr/>
              </p:nvSpPr>
              <p:spPr>
                <a:xfrm>
                  <a:off x="4685040" y="5105520"/>
                  <a:ext cx="445824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4648320" y="5158440"/>
                  <a:ext cx="4494600" cy="1562760"/>
                  <a:chOff x="4648320" y="5158440"/>
                  <a:chExt cx="4494600" cy="1562760"/>
                </a:xfrm>
              </p:grpSpPr>
              <p:sp>
                <p:nvSpPr>
                  <p:cNvPr id="59" name=""/>
                  <p:cNvSpPr/>
                  <p:nvPr/>
                </p:nvSpPr>
                <p:spPr>
                  <a:xfrm>
                    <a:off x="7478640" y="5158440"/>
                    <a:ext cx="16642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48320" y="5238360"/>
                    <a:ext cx="245304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62"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0CB0-7C4A-4FAE-A28C-DC75D6C0096D}"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20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Toyako Summit: A Review</a:t>
            </a:r>
            <a:endParaRPr b="0" lang="en-US" sz="4400" spc="-1" strike="noStrike">
              <a:solidFill>
                <a:srgbClr val="003399"/>
              </a:solidFill>
              <a:latin typeface="Arial"/>
            </a:endParaRPr>
          </a:p>
        </p:txBody>
      </p:sp>
      <p:sp>
        <p:nvSpPr>
          <p:cNvPr id="103" name="PlaceHolder 2"/>
          <p:cNvSpPr>
            <a:spLocks noGrp="1"/>
          </p:cNvSpPr>
          <p:nvPr>
            <p:ph type="subTitle"/>
          </p:nvPr>
        </p:nvSpPr>
        <p:spPr>
          <a:xfrm>
            <a:off x="1371600" y="2205000"/>
            <a:ext cx="6400800" cy="396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Eric Johnston</a:t>
            </a: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puty Edito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Japan Times</a:t>
            </a:r>
            <a:endParaRPr b="0" lang="en-US" sz="3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ed to:</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kkaido International Business Associa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10</a:t>
            </a:r>
            <a:r>
              <a:rPr b="1" lang="en-US" sz="2800" spc="-1" strike="noStrike" baseline="30000">
                <a:solidFill>
                  <a:srgbClr val="000000"/>
                </a:solidFill>
                <a:latin typeface="Arial"/>
              </a:rPr>
              <a:t>th</a:t>
            </a:r>
            <a:r>
              <a:rPr b="1" lang="en-US" sz="2800" spc="-1" strike="noStrike">
                <a:solidFill>
                  <a:srgbClr val="000000"/>
                </a:solidFill>
                <a:latin typeface="Arial"/>
              </a:rPr>
              <a:t>,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ric’s questions for HIBA</a:t>
            </a:r>
            <a:endParaRPr b="0" lang="en-US" sz="4400" spc="-1" strike="noStrike">
              <a:solidFill>
                <a:srgbClr val="003399"/>
              </a:solidFill>
              <a:latin typeface="Arial"/>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oes the Hokkaido government have a ``Post Toyako’’ plan and a budget for promoting international business, including trade and tourism. If so, is the plan being funded by Tokyo, or by local taxpayers?</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s the Hokkaido Prefectural Government seriously committed to further development of the international convention and tourism industry here in Sappo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he English Media and post-Toyako Summit Hokkaido</a:t>
            </a:r>
            <a:endParaRPr b="0" lang="en-US" sz="4000" spc="-1" strike="noStrike">
              <a:solidFill>
                <a:srgbClr val="003399"/>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n the English language media are wondering about the market potential of Hokkaido, post-Summit. But we have the following concerns:</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s there enough of a demand among visiting foreign business people here in Sapporo for an English language paper? </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do we reach the hotels and pensions where foreigners are staying?</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kind of local news most interests the Hokkaido foreign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9000"/>
            <a:ext cx="8229600" cy="437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THANK YOU!!!!!</a:t>
            </a:r>
            <a:endParaRPr b="0" lang="en-US" sz="4400" spc="-1" strike="noStrike">
              <a:solidFill>
                <a:srgbClr val="003399"/>
              </a:solidFill>
              <a:latin typeface="Arial"/>
            </a:endParaRPr>
          </a:p>
        </p:txBody>
      </p:sp>
      <p:sp>
        <p:nvSpPr>
          <p:cNvPr id="125" name="PlaceHolder 2"/>
          <p:cNvSpPr>
            <a:spLocks noGrp="1"/>
          </p:cNvSpPr>
          <p:nvPr>
            <p:ph/>
          </p:nvPr>
        </p:nvSpPr>
        <p:spPr>
          <a:xfrm>
            <a:off x="457200" y="4724280"/>
            <a:ext cx="8229600" cy="1409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he Toyako Summit: </a:t>
            </a:r>
            <a:br>
              <a:rPr sz="4000"/>
            </a:br>
            <a:r>
              <a:rPr b="0" lang="ja-JP" sz="4000" spc="-1" strike="noStrike">
                <a:solidFill>
                  <a:srgbClr val="003399"/>
                </a:solidFill>
                <a:latin typeface="Arial"/>
              </a:rPr>
              <a:t>What Happened?</a:t>
            </a:r>
            <a:endParaRPr b="0" lang="en-US" sz="4000" spc="-1" strike="noStrike">
              <a:solidFill>
                <a:srgbClr val="003399"/>
              </a:solidFill>
              <a:latin typeface="Arial"/>
            </a:endParaRPr>
          </a:p>
        </p:txBody>
      </p:sp>
      <p:sp>
        <p:nvSpPr>
          <p:cNvPr id="10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agreed on long term green house gas emissions reductions targets of at least 50 percent by 2050</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agreed to work to make the climate change conference in Copenhagen a success.</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8 Leaders promised Africa that it would would increase aid by $25 billion a year b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Toyako Summit: </a:t>
            </a:r>
            <a:br>
              <a:rPr sz="4000"/>
            </a:br>
            <a:r>
              <a:rPr b="0" lang="ja-JP" sz="4000" spc="-1" strike="noStrike">
                <a:solidFill>
                  <a:srgbClr val="003399"/>
                </a:solidFill>
                <a:latin typeface="Arial"/>
              </a:rPr>
              <a:t>What Didn’t Happen</a:t>
            </a:r>
            <a:endParaRPr b="0" lang="en-US" sz="4000" spc="-1" strike="noStrike">
              <a:solidFill>
                <a:srgbClr val="003399"/>
              </a:solidFill>
              <a:latin typeface="Arial"/>
            </a:endParaRPr>
          </a:p>
        </p:txBody>
      </p:sp>
      <p:sp>
        <p:nvSpPr>
          <p:cNvPr id="10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8 Leaders failed to commit to the specific recommendation by climatologists of cutting greenhouse gases between 25 and 40 percent by 2020 in order to avert a global climate catastrophe after that.</a:t>
            </a:r>
            <a:endParaRPr b="0" lang="en-US" sz="3200" spc="-1" strike="noStrike">
              <a:solidFill>
                <a:srgbClr val="000000"/>
              </a:solidFill>
              <a:latin typeface="Arial"/>
            </a:endParaRPr>
          </a:p>
          <a:p>
            <a:pPr marL="343080" indent="-343080">
              <a:lnSpc>
                <a:spcPct val="90000"/>
              </a:lnSpc>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8 Leaders failed explain how they would deliver on their aid promises made to Africa since 2005, and how they would take responsibility for ensuring the money was accounted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99"/>
                </a:solidFill>
                <a:latin typeface="Arial"/>
              </a:rPr>
              <a:t>The Toyako Agenda</a:t>
            </a:r>
            <a:endParaRPr b="0" lang="en-US" sz="4400" spc="-1" strike="noStrike">
              <a:solidFill>
                <a:srgbClr val="003399"/>
              </a:solidFill>
              <a:latin typeface="Arial"/>
            </a:endParaRPr>
          </a:p>
        </p:txBody>
      </p:sp>
      <p:sp>
        <p:nvSpPr>
          <p:cNvPr id="109"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d to Africa</a:t>
            </a:r>
            <a:endParaRPr b="0" lang="en-US" sz="3200" spc="-1" strike="noStrike">
              <a:solidFill>
                <a:srgbClr val="000000"/>
              </a:solidFill>
              <a:latin typeface="Arial"/>
            </a:endParaRPr>
          </a:p>
          <a:p>
            <a:pPr marL="343080" indent="-343080">
              <a:spcBef>
                <a:spcPts val="700"/>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nonproliferation </a:t>
            </a:r>
            <a:r>
              <a:rPr b="0" lang="en-US" sz="2800" spc="-1" strike="noStrike">
                <a:solidFill>
                  <a:srgbClr val="000000"/>
                </a:solidFill>
                <a:latin typeface="Arial"/>
              </a:rPr>
              <a:t>(Iran, North Korea)</a:t>
            </a:r>
            <a:endParaRPr b="0" lang="en-US" sz="28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food crisis</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of oil</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arkets and the world economy</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mbab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So, was the Summit a Success?</a:t>
            </a:r>
            <a:endParaRPr b="0" lang="en-US" sz="4400" spc="-1" strike="noStrike">
              <a:solidFill>
                <a:srgbClr val="003399"/>
              </a:solidFill>
              <a:latin typeface="Arial"/>
            </a:endParaRPr>
          </a:p>
        </p:txBody>
      </p:sp>
      <p:sp>
        <p:nvSpPr>
          <p:cNvPr id="11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 say the G8 Leaders, some elements of the Japanese media.</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 says practically everybody else</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EARLY TO TELL –say the NGOs involved with poverty and development issues, especially in Africa.</a:t>
            </a:r>
            <a:endParaRPr b="0" lang="en-US" sz="3200" spc="-1" strike="noStrike">
              <a:solidFill>
                <a:srgbClr val="000000"/>
              </a:solidFill>
              <a:latin typeface="Arial"/>
            </a:endParaRPr>
          </a:p>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OWN VIEW – It was neither a success nor a fail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Problems with the Outcome</a:t>
            </a:r>
            <a:endParaRPr b="0" lang="en-US" sz="4000" spc="-1" strike="noStrike">
              <a:solidFill>
                <a:srgbClr val="003399"/>
              </a:solidFill>
              <a:latin typeface="Arial"/>
            </a:endParaRPr>
          </a:p>
        </p:txBody>
      </p:sp>
      <p:sp>
        <p:nvSpPr>
          <p:cNvPr id="1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limate Change –G-8 Leaders did not take into account the scientific evidence or the advice, presented last year by the UN, of rapid climate change and what the world needs to do. The emerging economies also failed to show political leadership and imagination, putting their own ``victim politics’’ above coop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Basic Problems with the Outcome(2)</a:t>
            </a:r>
            <a:endParaRPr b="0" lang="en-US" sz="3800" spc="-1" strike="noStrike">
              <a:solidFill>
                <a:srgbClr val="003399"/>
              </a:solidFill>
              <a:latin typeface="Arial"/>
            </a:endParaRPr>
          </a:p>
        </p:txBody>
      </p:sp>
      <p:sp>
        <p:nvSpPr>
          <p:cNvPr id="1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frica –G-8 Leaders failed to explain or take action on how promised aid will actually be delivered. They also failed to address practical concerns on the distribution of the aid, i.e. dealing with corruption and making sure it reaches the right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Problems with Outcome (3) </a:t>
            </a:r>
            <a:endParaRPr b="0" lang="en-US" sz="4000" spc="-1" strike="noStrike">
              <a:solidFill>
                <a:srgbClr val="003399"/>
              </a:solidFill>
              <a:latin typeface="Arial"/>
            </a:endParaRPr>
          </a:p>
        </p:txBody>
      </p:sp>
      <p:sp>
        <p:nvSpPr>
          <p:cNvPr id="117" name="PlaceHolder 2"/>
          <p:cNvSpPr>
            <a:spLocks noGrp="1"/>
          </p:cNvSpPr>
          <p:nvPr>
            <p:ph/>
          </p:nvPr>
        </p:nvSpPr>
        <p:spPr>
          <a:xfrm>
            <a:off x="457200" y="1052280"/>
            <a:ext cx="8229600" cy="5545080"/>
          </a:xfrm>
          <a:prstGeom prst="rect">
            <a:avLst/>
          </a:prstGeom>
          <a:noFill/>
          <a:ln w="0">
            <a:noFill/>
          </a:ln>
        </p:spPr>
        <p:txBody>
          <a:bodyPr lIns="90000" rIns="90000" tIns="46800" bIns="46800" anchor="t">
            <a:normAutofit/>
          </a:bodyPr>
          <a:p>
            <a:pPr marL="343080" indent="-343080">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re is, in effect, very little the G-8 can do to deal with the rising price of oil. Past statements have done absolutely nothing to stem the rise of oil prices, which are being driven by oil speculato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G-8’s energy policy promotes controversial fuels like biofuel and nuclear power, even as the leaders tacitly acknowledge biofuels are at least partially responsible for the current food crisis. They have no real answer to increased nuclear power leading to increased proliferation</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3399"/>
                </a:solidFill>
                <a:latin typeface="Arial"/>
              </a:rPr>
              <a:t>Part II: Hokkaido and the </a:t>
            </a:r>
            <a:br>
              <a:rPr sz="4000"/>
            </a:br>
            <a:r>
              <a:rPr b="0" lang="ja-JP" sz="4000" spc="-1" strike="noStrike">
                <a:solidFill>
                  <a:srgbClr val="003399"/>
                </a:solidFill>
                <a:latin typeface="Arial"/>
              </a:rPr>
              <a:t>Toyako Summit</a:t>
            </a:r>
            <a:endParaRPr b="0" lang="en-US" sz="4000" spc="-1" strike="noStrike">
              <a:solidFill>
                <a:srgbClr val="003399"/>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Some media reports in Tokyo/Osaka said the economic impact of the Hokkaido summit would be as much as 60 billion yen –which is the estimated total cost of the summit.</a:t>
            </a:r>
            <a:endParaRPr b="0" lang="en-US" sz="2400" spc="-1" strike="noStrike">
              <a:solidFill>
                <a:srgbClr val="000000"/>
              </a:solidFill>
              <a:latin typeface="Arial"/>
            </a:endParaRPr>
          </a:p>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 sense of resignation among those living in the Toyako area that a few would benefit but most would not.</a:t>
            </a:r>
            <a:endParaRPr b="0" lang="en-US" sz="2400" spc="-1" strike="noStrike">
              <a:solidFill>
                <a:srgbClr val="000000"/>
              </a:solidFill>
              <a:latin typeface="Arial"/>
            </a:endParaRPr>
          </a:p>
          <a:p>
            <a:pPr marL="343080" indent="-343080">
              <a:lnSpc>
                <a:spcPct val="80000"/>
              </a:lnSpc>
              <a:spcBef>
                <a:spcPts val="601"/>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 sense of déjà vu among people in other parts of Japan when they heard stories about how the central government promised Hokkaido citizens that they would play and active role in the summit preparations, only to see Tokyo move in and shut out local merchant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08:31:51Z</dcterms:created>
  <dc:creator> </dc:creator>
  <dc:description/>
  <dc:language>en-US</dc:language>
  <cp:lastModifiedBy> </cp:lastModifiedBy>
  <dcterms:modified xsi:type="dcterms:W3CDTF">2008-07-11T02:12:13Z</dcterms:modified>
  <cp:revision>11</cp:revision>
  <dc:subject/>
  <dc:title>Toyako Summit: A Review</dc:title>
</cp:coreProperties>
</file>