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tif" ContentType="image/tiff"/>
  <Override PartName="/ppt/media/image4.tif" ContentType="image/tiff"/>
  <Override PartName="/ppt/media/image11.jpeg" ContentType="image/jpeg"/>
  <Override PartName="/ppt/media/image5.tif" ContentType="image/tiff"/>
  <Override PartName="/ppt/media/image6.tif" ContentType="image/tiff"/>
  <Override PartName="/ppt/media/image10.jpeg" ContentType="image/jpeg"/>
  <Override PartName="/ppt/media/image7.tif" ContentType="image/tiff"/>
  <Override PartName="/ppt/media/image8.tif" ContentType="image/tiff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  <p:custShowLst>
    <p:custShow name="JSAC 20 mins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36E4E-5350-4F86-AE17-D79A209E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E9F8F1-A88E-4AA8-8CA5-C17D858A01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ED9-E633-4311-AD11-9CE32ED4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BE6-CDC1-486C-A86A-27F53A92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259-E5AC-46FB-B13B-4CFDF7AF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F22-2B83-4398-8BF3-579DB777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F520-EC0C-4C54-8310-53F90FAD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8D9D-241A-41E2-87A2-38A5664D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C1B2-F76F-463C-84F1-5C01C67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8AA-8C38-46CF-A10C-565A58C1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7B50-23A6-4885-870C-06B0299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FEE-D028-4D5C-A19C-47D07E4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731-D8CE-46CD-910B-AA3C36F8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D10-714B-441F-8D2E-7506FD7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D023-40EC-4DA0-BD36-F4CF6A8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27CC-B01C-4025-94D4-7DBD090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7DAB-33E8-4D70-8595-1AE7A4B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4DD7-0B4E-4DA7-B9C8-817E0927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2BE-91C7-4AEE-B196-B677B08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0834-3036-4194-9641-B21E09DE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BDBF-3346-43C4-8BB4-D2B75425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784B-98A6-4DC6-B89F-C02C02B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29F8-5895-4F3B-A75A-E59EADB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59DB-EBF7-4DC8-978F-CAEC1D2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990-812D-4AA8-AF90-536BA6B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5F8C-6F7C-4F47-A00E-348D173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A5BF-2CDB-48F0-A6F7-D04E18D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2AC0-E8BF-4DE0-9EA3-F07A02E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12AB-550C-475A-99BA-433855D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AA55-EE28-4276-A540-4A354D0B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70C6-9B3B-49D4-9A13-AA25F850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AECB-3C71-4772-9DDC-954878E3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B3AB-4B3E-4F84-B3C7-BE306AE5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4412-00A4-470F-B7E7-7A64FC6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49D7-08D5-4197-9AD6-C1B489E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AF4-FFBF-4B9E-ADA5-7DF16E2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61F3-839F-4ECF-BC95-68E48AD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F1E4-49EE-4679-9F07-B4360EF8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9C5D-A0BF-427A-95ED-759CEA52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7D6A-8316-4584-8489-190D107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EF37-A81A-43DB-BB1B-1EFC58AD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5499-84B2-4FA8-BFAA-FF465A80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3EA8-B7EC-4406-8A41-DF8F4137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02D4-DFD7-4A5F-83F1-1CBA071D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7CDC-282E-4885-9126-DBB0D248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9E0-219B-4959-BA89-4BF963B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E14-DC06-4A46-923C-8295EAD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AA4-C614-4A33-99B3-5D987C2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9BB-BE67-44AD-8C3C-1354213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299-12B9-44BB-8232-22DE4A79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2C145C-C63A-4018-99FC-347A1AD9805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8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C2525E-24B4-4727-95E2-6C019A9FB15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704CB-D9E7-46A0-9D9C-69E6B5583B8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F0C3E1-D648-4415-9946-F3B6A07A632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t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t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image" Target="../media/image4.t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D45C99-7F99-4F43-80E6-3D95873C986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609480"/>
            <a:ext cx="91436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3/11 </a:t>
            </a:r>
            <a:br>
              <a:rPr sz="4400"/>
            </a:br>
            <a:r>
              <a:rPr b="1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nd the “Flyjin”phenomenon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RUDOU Debito</a:t>
            </a:r>
            <a:br>
              <a:rPr sz="28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filiate Scholar, East-West Center, Honolulu, Hawaii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Download this presentation at </a:t>
            </a:r>
            <a:br>
              <a:rPr sz="2000"/>
            </a:br>
            <a:r>
              <a:rPr b="1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www.debito.org/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lyjin</a:t>
            </a:r>
            <a:r>
              <a:rPr b="1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032012.pp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ter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8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/14 Tokyo Gov. Ishihara calls tsunami “divine punishment”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bat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to wash away Japan’s identity as “greed”, then retracts; still gets reelected to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erm on 4/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xamined was Ishihara’s claim on 4/9/00 (th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ngokuj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ech”) that “bad NJ” committing “heinous crimes” would riot in the event of a natural disaster, proposes JSDF round them up.  Clearly didn’t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2211-041A-4526-9189-C2B05603BE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ter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running in Ishihara’s 4/10/11 election was overt xenophobic candidate Furukawa Keigo, whose policy stump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guard the capital, safeguard Japan. Japan belongs to the Japanese peop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l the foreign barbarians” (i.e., Chinese and Koreans) from Toky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ukawa still garners 6000 v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5C34-A5BD-42E9-9632-D17A4BA171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872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: 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population drop in Flyjins’ w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Content Placeholder 4" descr="NJpopulationstats2011.tiff"/>
          <p:cNvPicPr/>
          <p:nvPr/>
        </p:nvPicPr>
        <p:blipFill>
          <a:blip r:embed="rId1"/>
          <a:stretch/>
        </p:blipFill>
        <p:spPr>
          <a:xfrm>
            <a:off x="1155600" y="1981080"/>
            <a:ext cx="7022880" cy="4101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85160" y="6172200"/>
            <a:ext cx="608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Ministry of Justice, at http://www.moj.go.jp/content/00009484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A267-F757-4740-A4E6-2182AF5A82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2)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Raw stats for NJ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2585160" y="6172200"/>
            <a:ext cx="608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Ministry of Justice, at http://www.moj.go.jp/content/00009484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6" descr="NJpopulationrawstats2011.tiff"/>
          <p:cNvPicPr/>
          <p:nvPr/>
        </p:nvPicPr>
        <p:blipFill>
          <a:blip r:embed="rId1"/>
          <a:stretch/>
        </p:blipFill>
        <p:spPr>
          <a:xfrm>
            <a:off x="355680" y="1981080"/>
            <a:ext cx="8534160" cy="41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520D-56B7-407F-AEC6-505E86479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3):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crime keeps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199800" y="6172200"/>
            <a:ext cx="8841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ational Police Agency, npa.go.jp/sosikihanzai/kokusaisousa/kokusai/H23_Z_RAINICHI_ZANTE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Content Placeholder 4" descr="NPAprelimcrimestats2011barchart.tiff"/>
          <p:cNvPicPr/>
          <p:nvPr/>
        </p:nvPicPr>
        <p:blipFill>
          <a:blip r:embed="rId1"/>
          <a:stretch/>
        </p:blipFill>
        <p:spPr>
          <a:xfrm>
            <a:off x="0" y="1562040"/>
            <a:ext cx="9143640" cy="45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10D3-270C-47FC-BD1E-CEE12A17B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4):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Every NJ crime significantly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99800" y="6172200"/>
            <a:ext cx="8841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ational Police Agency, npa.go.jp/sosikihanzai/kokusaisousa/kokusai/H23_Z_RAINICHI_ZANTE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Content Placeholder 6" descr="NPANJprelimcrimerawstats2011.tiff"/>
          <p:cNvPicPr/>
          <p:nvPr/>
        </p:nvPicPr>
        <p:blipFill>
          <a:blip r:embed="rId1"/>
          <a:stretch/>
        </p:blipFill>
        <p:spPr>
          <a:xfrm>
            <a:off x="0" y="1981080"/>
            <a:ext cx="9143640" cy="41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3EB5-EC6A-49EF-9557-AE0F2A4147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150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ny: J workers, companies fleeing during Bangkok’s October 2011 floods, even bringing 6-month Thai workers to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blame NJ for a crisis created by domestic negligence? Because disenfranchised NJ are easy distraction, or as “Flyjin”, a scapeg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little to no J media or official acknow-ledgement of the good things that NJ do and have done for Japan’s economy and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BCBC-9DBF-490E-9D9C-BB4140C3C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1599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onclusion:  Beware dodgy journalism misleading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36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rry-picking data (e.g., Small-size or narrow-sample sour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aggregate numbers that are inapplicable to regional/loca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omparing with J in same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linguistic hedgers like 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mirare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ō 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“there are cases of…”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ling for hegemonic discourse of J as victims and NJ as disloyal, criminals, unreliabl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DC2E-27B7-4A2E-8D08-E6947CBE5B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142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  <a:ea typeface="ＭＳ Ｐゴシック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29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BN  4  7503  9018  6  English version, Japanese version  ISBN  4  7503  9001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JObookcover"/>
          <p:cNvPicPr/>
          <p:nvPr/>
        </p:nvPicPr>
        <p:blipFill>
          <a:blip r:embed="rId1">
            <a:lum contrast="36000"/>
          </a:blip>
          <a:srcRect l="5587" t="0" r="11173" b="0"/>
          <a:stretch/>
        </p:blipFill>
        <p:spPr>
          <a:xfrm>
            <a:off x="1143000" y="1905120"/>
            <a:ext cx="2868120" cy="434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apaneseonlyecover"/>
          <p:cNvPicPr/>
          <p:nvPr/>
        </p:nvPicPr>
        <p:blipFill>
          <a:blip r:embed="rId2"/>
          <a:stretch/>
        </p:blipFill>
        <p:spPr>
          <a:xfrm>
            <a:off x="4952880" y="1905120"/>
            <a:ext cx="2900160" cy="4266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133720" y="6324480"/>
            <a:ext cx="498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japaneseonl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DF84-F0FE-471C-82A3-7AAC34B86A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142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  <a:ea typeface="ＭＳ Ｐゴシック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 and Japanese  ISBN  4  7503  2741 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HANDBOOKsemifinalcover"/>
          <p:cNvPicPr/>
          <p:nvPr/>
        </p:nvPicPr>
        <p:blipFill>
          <a:blip r:embed="rId1"/>
          <a:stretch/>
        </p:blipFill>
        <p:spPr>
          <a:xfrm>
            <a:off x="914400" y="1752480"/>
            <a:ext cx="3339720" cy="48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inappropriatecoverweb.jpg"/>
          <p:cNvPicPr/>
          <p:nvPr/>
        </p:nvPicPr>
        <p:blipFill>
          <a:blip r:embed="rId2"/>
          <a:stretch/>
        </p:blipFill>
        <p:spPr>
          <a:xfrm>
            <a:off x="4876920" y="1752480"/>
            <a:ext cx="3179160" cy="4800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4419720" y="1447920"/>
            <a:ext cx="403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BN  978 1 257 02640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152360" y="6596280"/>
            <a:ext cx="2835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handbook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4910040" y="6596280"/>
            <a:ext cx="3126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inappropriat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7562-C662-4F34-8624-CBB01771F3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3/11/12 Great East Japan 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.16K dead, 27K injured, 3K missing from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Content Placeholder 7" descr="tsunamiphoto.tiff"/>
          <p:cNvPicPr/>
          <p:nvPr/>
        </p:nvPicPr>
        <p:blipFill>
          <a:blip r:embed="rId1"/>
          <a:stretch/>
        </p:blipFill>
        <p:spPr>
          <a:xfrm>
            <a:off x="457200" y="2174760"/>
            <a:ext cx="4039920" cy="395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kushima nuclear power plant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ontent Placeholder 8" descr="fukushimaphoto.tiff"/>
          <p:cNvPicPr/>
          <p:nvPr/>
        </p:nvPicPr>
        <p:blipFill>
          <a:blip r:embed="rId2"/>
          <a:stretch/>
        </p:blipFill>
        <p:spPr>
          <a:xfrm>
            <a:off x="4645080" y="2174760"/>
            <a:ext cx="4041360" cy="3951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D2D-5338-431A-BE3B-04331C7D6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1346040" y="1371600"/>
            <a:ext cx="65019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ja-JP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ご清聴ありがとうございまし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ANK YOU FOR LISTE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wnload this presentation at </a:t>
            </a:r>
            <a:br>
              <a:rPr sz="2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lyj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2012.p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C3D4-A24B-47B8-8F7E-C38D38C72E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wags coin “Flyjin” on 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lso“Bye-jin”) a corrup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j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he more racist epithet for “foreigner”) (Hoofin blog 4/2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yjin.com also set up to depict NJ as panicky, overreacting to flawed overseas media depictions of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deprecating humor soon escalates beyond sarcasm and irony into media epith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0F08-C455-4C46-8D84-75C37C6FF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Flyjin Fallout hits J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3640" cy="510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 Street Journal 3/23 reports in E and J of “fly-jin exodus”, blames NJ culture of “allegiance” of NJ to family 1st, company 2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hough not called “Flyjin” in vernacular (e.g., Nikkei 4/9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hon o saru gaikoku rōdōs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NJ reported as fleeing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J portrayed as deserting their work stations (Zakzak 4/15: affecting fast-food restaurant chain Yoshinoya’s profitability?, conject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2B5A-3909-4B21-A69D-73533387D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edia frenzy b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ahi’s influent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sei Jin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umn 3/20 has tone of betrayal: NJ (tourists, business travelers, students, diplomats) “scrambled” abroad, concludes “rebuilding our country is ultimately the task of none but Japane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kkan Gendai headline 4/11:  “All NJ have fled Japan”. SPA! 4/12: “Bad NJ” (Asians, Arabs, Africans) massing in Ueno where NPA, Yakuza “order-keeping ability” is w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82D5-A774-4E82-8643-49EB01651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Open season on NJ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ichi Shimbun 4/25:  Factories crippled by shortage of NJ workers, conjectures that Yokohama Chinatown and entire J textile industry could suffer “serious damage”, if not “fall apar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Sports Shimbun 4/14 blames closure of Tokyo Disneyland not on power outages, but on NJ; says can’t run the facility without NJ dancers in parades (TDL reopens 4/1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06B4-5F62-433B-8CD8-18B55E1A0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media wave c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ahi 3/26: Rumors swirl about “NJ criminal gangs” carrying out muggings, lootings, rapes.  Yet Sankei 4/1 reports no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cast.com 4/7:  GOJ unusually intervenes to quash internet rumors, avoid debacle of 1923 Kantō earthquake’s mass murder of 100s of Koreans/Chinese etc. due to rumors of well poisonings, rebellion, sab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01E5-7D73-4073-B586-BDCCE0C89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Restoring s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276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ngetsu News Agency 4/13:  NPA, ministries establish task force, notify media (including net providers) to era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ptions of EQ as man-made (3/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ims of EQ caused by NJ terrorism (3/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ritics decry this as censorship, as means to keep information on TEPCO and GOJ from public, avoiding responsibility for disast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B005-6112-4F51-9B04-8E8AF8097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What was drowned out by the NJ blam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omestic reportage on what NJ were doing to help out in disaster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 on/critique of J “flyjin”, who were also fleeing potential disaster areas (Sankei 3/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issues of discrimination, such as J fleeing from disaster areas being refused at hotels (Yomiuri 3/18, 4/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info re facts on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90B7-6289-496F-BA4D-607633B45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cintosh HD:Applications:Microsoft Office 2004:Templates:Presentations:Designs:Cranes</Template>
  <TotalTime>33157</TotalTime>
  <Application>LibreOffice/7.4.7.2$Linux_X86_64 LibreOffice_project/40$Build-2</Application>
  <AppVersion>15.0000</AppVersion>
  <Words>1107</Words>
  <Paragraphs>90</Paragraphs>
  <Company>Hokkaido Informatio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8:06:11Z</dcterms:created>
  <dc:creator>Arudou  Debito</dc:creator>
  <dc:description/>
  <dc:language>en-US</dc:language>
  <cp:lastModifiedBy>Arudou  Debito</cp:lastModifiedBy>
  <cp:lastPrinted>2012-03-01T22:26:45Z</cp:lastPrinted>
  <dcterms:modified xsi:type="dcterms:W3CDTF">2012-03-19T20:55:35Z</dcterms:modified>
  <cp:revision>189</cp:revision>
  <dc:subject/>
  <dc:title>Japanese On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