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tif" ContentType="image/tiff"/>
  <Override PartName="/ppt/media/image4.tif" ContentType="image/tiff"/>
  <Override PartName="/ppt/media/image11.jpeg" ContentType="image/jpeg"/>
  <Override PartName="/ppt/media/image5.tif" ContentType="image/tiff"/>
  <Override PartName="/ppt/media/image6.tif" ContentType="image/tiff"/>
  <Override PartName="/ppt/media/image10.jpeg" ContentType="image/jpeg"/>
  <Override PartName="/ppt/media/image7.tif" ContentType="image/tiff"/>
  <Override PartName="/ppt/media/image8.tif" ContentType="image/tiff"/>
  <Override PartName="/ppt/media/image9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  <p:custShowLst>
    <p:custShow name="JSAC 20 mins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E089EF-FDE0-4957-9FC6-B0AB93DAF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Num" idx="1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56F148-58EA-4300-8141-31F235DA02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064-1556-4595-A670-AB685C43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209-E28E-4561-9DCF-13488702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F17-2C88-4DB2-9BE8-8FD73FE2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9A5-235D-4784-9B90-76D31DAF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A750-217A-4057-8186-CC9A4212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7EE2-5396-4712-88EE-A2F823BC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103C-671B-4BAE-8562-8112B3E3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7C61-6EEA-4A17-B5E2-D169B4B9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1697-CB53-406B-BA3F-587C431D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AFF9-74CD-4BA4-A5CA-1B9A5832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ED18-0E15-4090-82E5-365D9329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38A-6D81-4F87-97A6-7370E6D4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D6F8-BBA9-46DB-BEF0-BC2B0116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A467-E6BC-4CA0-870B-D4043FBE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334A-288B-4F00-8E33-2C52EC97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36D0-D719-47ED-A2D0-EBF5E0D5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3FAE-03AC-42C5-9866-9E5707AF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FB656-3572-4010-A427-F5A3B4DD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A4730-8166-4ADA-9A4F-10D6D8D7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2D7DE-75A3-4CAC-AD5B-83AA8922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2694-CDD2-482E-AA55-1ECA4A74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6BC67-1F8D-4E7C-9928-E9DC8C1E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7BB-C2D6-46B1-9FA4-5ED505EF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9EE91-62A8-4E7F-9CC7-594984D9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CF34-F70D-4276-B5BE-0531626C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E2DB5-71B4-4E15-9FAE-DA55CE4D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4782C-BE32-4786-BA1E-1784BF89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EB287-E4DB-47CF-8DF4-F88A86C8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F85A-E1F1-4520-A685-C8D64FDF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29E03-38B1-4243-BC20-192483F4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DAD7A-9005-40DA-A79E-6F66E38A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8234-B371-4069-BF1F-A6F9E627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D3C49-BF0A-4F95-A3BC-AA6FA867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08A-B0C5-452B-82C6-ABBCB55E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1DBCD-ADE4-4BD7-8D01-D16A11A4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67457-0A39-4919-A098-8B72216C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45410-3932-4E9E-8E06-0059889B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218A-32A1-4F63-97CA-A6423D83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9663C-61D3-4AC8-9DF7-492A0EC1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114A-4CA8-472A-9D3E-91DAB3BB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86CD3-7EEB-4989-A644-05EEF04C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A0635-4198-4265-BA47-4AF66F5B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419CB-C51B-4031-88B8-B761079B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02B-9514-4D8C-BE70-B72492B6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726-97B1-477A-8263-B806E8DC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8D2-BFD4-48F8-A3CB-2B1928BC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210-22C6-4B01-8CFE-063F794B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9E5-7BC7-46A2-AEAC-62607DD8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D26B29-2E78-49C1-ABA9-588FAC80109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43a1b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343a1b"/>
              </a:buClr>
              <a:buFont typeface="Wingdings" charset="2"/>
              <a:buChar char="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343a1b"/>
              </a:buClr>
              <a:buFont typeface="Wingdings" charset="2"/>
              <a:buChar char="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343a1b"/>
              </a:buClr>
              <a:buFont typeface="Wingdings" charset="2"/>
              <a:buChar char="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43a1b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343a1b"/>
              </a:buClr>
              <a:buFont typeface="Wingdings" charset="2"/>
              <a:buChar char="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343a1b"/>
              </a:buClr>
              <a:buFont typeface="Wingdings" charset="2"/>
              <a:buChar char="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343a1b"/>
              </a:buClr>
              <a:buFont typeface="Wingdings" charset="2"/>
              <a:buChar char="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8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9379E5-4B5B-4D55-BB46-B34D31CE159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43a1b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43a1b"/>
              </a:buClr>
              <a:buFont typeface="Wingdings" charset="2"/>
              <a:buChar char="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343a1b"/>
              </a:buClr>
              <a:buFont typeface="Wingdings" charset="2"/>
              <a:buChar char="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43a1b"/>
              </a:buClr>
              <a:buFont typeface="Wingdings" charset="2"/>
              <a:buChar char="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0B925E-99A7-4D9D-9A40-D8849CA6A72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47962A-2C4B-441F-A857-2110F4FA3A8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t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t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t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t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tif"/><Relationship Id="rId2" Type="http://schemas.openxmlformats.org/officeDocument/2006/relationships/image" Target="../media/image4.t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0CE865-A4B8-4F26-B35C-706FA6CD133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0" y="609480"/>
            <a:ext cx="914364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3/11 </a:t>
            </a:r>
            <a:br>
              <a:rPr sz="4400"/>
            </a:br>
            <a:r>
              <a:rPr b="1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and the “Flyjin”phenomenon</a:t>
            </a:r>
            <a:br>
              <a:rPr sz="4400"/>
            </a:br>
            <a:br>
              <a:rPr sz="4400"/>
            </a:br>
            <a:r>
              <a:rPr b="0" i="1" lang="en-US" sz="28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ARUDOU Debito</a:t>
            </a:r>
            <a:br>
              <a:rPr sz="2800"/>
            </a:br>
            <a:r>
              <a:rPr b="0" i="1" lang="en-US" sz="20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Affiliate Scholar, East-West Center, Honolulu, Hawaii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Download this presentation at </a:t>
            </a:r>
            <a:br>
              <a:rPr sz="2000"/>
            </a:br>
            <a:r>
              <a:rPr b="1" i="1" lang="en-US" sz="28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www.debito.org/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lyjin</a:t>
            </a:r>
            <a:r>
              <a:rPr b="1" i="1" lang="en-US" sz="28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032012.pp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Aftersh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8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/14 Tokyo Gov. Ishihara calls tsunami “divine punishment”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nbat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to wash away Japan’s identity as “greed”, then retracts; still gets reelected to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erm on 4/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xamined was Ishihara’s claim on 4/9/00 (the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ngokuj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peech”) that “bad NJ” committing “heinous crimes” would riot in the event of a natural disaster, proposes JSDF round them up.  Clearly didn’t hap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01FD-849D-4B70-AD4F-A404BF67E5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Aftersh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872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running in Ishihara’s 4/10/11 election was overt xenophobic candidate Furukawa Keigo, whose policy stump inclu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guard the capital, safeguard Japan. Japan belongs to the Japanese peopl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l the foreign barbarians” (i.e., Chinese and Koreans) from Toky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rukawa still garners 6000 v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94D8-841D-4107-8D2A-2B85AB710F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8720" cy="1371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The unexamined life: 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NJ population drop in Flyjins’ w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Content Placeholder 4" descr="NJpopulationstats2011.tiff"/>
          <p:cNvPicPr/>
          <p:nvPr/>
        </p:nvPicPr>
        <p:blipFill>
          <a:blip r:embed="rId1"/>
          <a:stretch/>
        </p:blipFill>
        <p:spPr>
          <a:xfrm>
            <a:off x="1155600" y="1981080"/>
            <a:ext cx="7022880" cy="41018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85160" y="6172200"/>
            <a:ext cx="608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Ministry of Justice, at http://www.moj.go.jp/content/000094842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BC73-3658-4143-A565-AF7CD4666B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The unexamined life (2)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Raw stats for NJ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2585160" y="6172200"/>
            <a:ext cx="608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Ministry of Justice, at http://www.moj.go.jp/content/000094842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ontent Placeholder 6" descr="NJpopulationrawstats2011.tiff"/>
          <p:cNvPicPr/>
          <p:nvPr/>
        </p:nvPicPr>
        <p:blipFill>
          <a:blip r:embed="rId1"/>
          <a:stretch/>
        </p:blipFill>
        <p:spPr>
          <a:xfrm>
            <a:off x="355680" y="1981080"/>
            <a:ext cx="8534160" cy="410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54F37-CFDA-48ED-BDEB-9A6A3F2D64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3640" cy="1371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The unexamined life (3):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NJ crime keeps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199800" y="6172200"/>
            <a:ext cx="8841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National Police Agency, npa.go.jp/sosikihanzai/kokusaisousa/kokusai/H23_Z_RAINICHI_ZANTEI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Content Placeholder 4" descr="NPAprelimcrimestats2011barchart.tiff"/>
          <p:cNvPicPr/>
          <p:nvPr/>
        </p:nvPicPr>
        <p:blipFill>
          <a:blip r:embed="rId1"/>
          <a:stretch/>
        </p:blipFill>
        <p:spPr>
          <a:xfrm>
            <a:off x="0" y="1562040"/>
            <a:ext cx="9143640" cy="45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523CA-DA60-4B91-B76D-23AC2C59EE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36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The unexamined life (4):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Every NJ crime significantly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199800" y="6172200"/>
            <a:ext cx="8841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National Police Agency, npa.go.jp/sosikihanzai/kokusaisousa/kokusai/H23_Z_RAINICHI_ZANTEI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Content Placeholder 6" descr="NPANJprelimcrimerawstats2011.tiff"/>
          <p:cNvPicPr/>
          <p:nvPr/>
        </p:nvPicPr>
        <p:blipFill>
          <a:blip r:embed="rId1"/>
          <a:stretch/>
        </p:blipFill>
        <p:spPr>
          <a:xfrm>
            <a:off x="0" y="1981080"/>
            <a:ext cx="9143640" cy="41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B437-DB97-4D8E-9A7A-2300C16A80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The unexamined life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15040" cy="5028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ony: J workers, companies fleeing during Bangkok’s October 2011 floods, even bringing 6-month Thai workers to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blame NJ for a crisis created by domestic negligence? Because disenfranchised NJ are easy distraction, or as “Flyjin”, a scapeg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ll little to no J media or official acknow-ledgement of the good things that NJ do and have done for Japan’s economy and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D003F-D880-48BA-9A1D-905A6745DA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040" cy="1599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Conclusion:  Beware dodgy journalism misleading 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3640" cy="5028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rry-picking data (e.g., Small-size or narrow-sample sourc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g aggregate numbers that are inapplicable to regional/local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comparing with J in same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g linguistic hedgers like “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mirare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, “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ō 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, “there are cases of…”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ling for hegemonic discourse of J as victims and NJ as disloyal, criminals, unreliabl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BCEE8-6A65-43CA-9E7C-1DE0B32109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14264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More on this and other issues:</a:t>
            </a:r>
            <a:br>
              <a:rPr sz="3600"/>
            </a:br>
            <a:r>
              <a:rPr b="1" lang="en-US" sz="3600" spc="-1" strike="noStrike">
                <a:solidFill>
                  <a:srgbClr val="970e10"/>
                </a:solidFill>
                <a:latin typeface="Arial"/>
                <a:ea typeface="ＭＳ Ｐゴシック"/>
              </a:rPr>
              <a:t>www.debito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292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BN  4  7503  9018  6  English version, Japanese version  ISBN  4  7503  9001 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JObookcover"/>
          <p:cNvPicPr/>
          <p:nvPr/>
        </p:nvPicPr>
        <p:blipFill>
          <a:blip r:embed="rId1">
            <a:lum contrast="36000"/>
          </a:blip>
          <a:srcRect l="5587" t="0" r="11173" b="0"/>
          <a:stretch/>
        </p:blipFill>
        <p:spPr>
          <a:xfrm>
            <a:off x="1143000" y="1905120"/>
            <a:ext cx="2868120" cy="4343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japaneseonlyecover"/>
          <p:cNvPicPr/>
          <p:nvPr/>
        </p:nvPicPr>
        <p:blipFill>
          <a:blip r:embed="rId2"/>
          <a:stretch/>
        </p:blipFill>
        <p:spPr>
          <a:xfrm>
            <a:off x="4952880" y="1905120"/>
            <a:ext cx="2900160" cy="4266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2133720" y="6324480"/>
            <a:ext cx="4980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debito.org/japaneseonly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735A3-C9CF-459E-994D-32948D543D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14264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More on this and other issues:</a:t>
            </a:r>
            <a:br>
              <a:rPr sz="3600"/>
            </a:br>
            <a:r>
              <a:rPr b="1" lang="en-US" sz="3600" spc="-1" strike="noStrike">
                <a:solidFill>
                  <a:srgbClr val="970e10"/>
                </a:solidFill>
                <a:latin typeface="Arial"/>
                <a:ea typeface="ＭＳ Ｐゴシック"/>
              </a:rPr>
              <a:t>www.debito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038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lish and Japanese  ISBN  4  7503  2741  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HANDBOOKsemifinalcover"/>
          <p:cNvPicPr/>
          <p:nvPr/>
        </p:nvPicPr>
        <p:blipFill>
          <a:blip r:embed="rId1"/>
          <a:stretch/>
        </p:blipFill>
        <p:spPr>
          <a:xfrm>
            <a:off x="914400" y="1752480"/>
            <a:ext cx="3339720" cy="4800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inappropriatecoverweb.jpg"/>
          <p:cNvPicPr/>
          <p:nvPr/>
        </p:nvPicPr>
        <p:blipFill>
          <a:blip r:embed="rId2"/>
          <a:stretch/>
        </p:blipFill>
        <p:spPr>
          <a:xfrm>
            <a:off x="4876920" y="1752480"/>
            <a:ext cx="3179160" cy="48002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4419720" y="1447920"/>
            <a:ext cx="403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201"/>
              </a:spcBef>
              <a:tabLst>
                <a:tab algn="l" pos="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BN  978 1 257 02640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1152360" y="6596280"/>
            <a:ext cx="2835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debito.org/handbook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4910040" y="6596280"/>
            <a:ext cx="31269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debito.org/inappropriat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C50B6-A32A-4D14-8F4F-E78712FFE6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3/11/12 Great East Japan 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.16K dead, 27K injured, 3K missing from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Content Placeholder 7" descr="tsunamiphoto.tiff"/>
          <p:cNvPicPr/>
          <p:nvPr/>
        </p:nvPicPr>
        <p:blipFill>
          <a:blip r:embed="rId1"/>
          <a:stretch/>
        </p:blipFill>
        <p:spPr>
          <a:xfrm>
            <a:off x="457200" y="2174760"/>
            <a:ext cx="4039920" cy="3951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kushima nuclear power plant dis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Content Placeholder 8" descr="fukushimaphoto.tiff"/>
          <p:cNvPicPr/>
          <p:nvPr/>
        </p:nvPicPr>
        <p:blipFill>
          <a:blip r:embed="rId2"/>
          <a:stretch/>
        </p:blipFill>
        <p:spPr>
          <a:xfrm>
            <a:off x="4645080" y="2174760"/>
            <a:ext cx="4041360" cy="3951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CA1A-A876-40CB-9F91-2BC4246269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2"/>
          <p:cNvSpPr/>
          <p:nvPr/>
        </p:nvSpPr>
        <p:spPr>
          <a:xfrm>
            <a:off x="1346040" y="1371600"/>
            <a:ext cx="65019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ja-JP" sz="3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ご清聴ありがとうございまし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HANK YOU FOR LISTE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wnload this presentation at </a:t>
            </a:r>
            <a:br>
              <a:rPr sz="24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debito.org/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lyji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32012.ppt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9BD35-16AB-4176-9A98-F288306F6F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4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NJ wags coin “Flyjin” on Twi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872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lso“Bye-jin”) a corrup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j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the more racist epithet for “foreigner”) (Hoofin blog 4/2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yjin.com also set up to depict NJ as panicky, overreacting to flawed overseas media depictions of dis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-deprecating humor soon escalates beyond sarcasm and irony into media epith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C1D8C-35DC-49B3-A9BA-7162FAF253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4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Flyjin Fallout hits J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3640" cy="510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 Street Journal 3/23 reports in E and J of “fly-jin exodus”, blames NJ culture of “allegiance” of NJ to family 1st, company 2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hough not called “Flyjin” in vernacular (e.g., Nikkei 4/9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hon o saru gaikoku rōdōs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NJ reported as fleeing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J portrayed as deserting their work stations (Zakzak 4/15: affecting fast-food restaurant chain Yoshinoya’s profitability?, conjectu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DDC54-40F6-40B8-AA33-5D92F31FCA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Media frenzy bui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4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ahi’s influent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nsei Jing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umn 3/20 has tone of betrayal: NJ (tourists, business travelers, students, diplomats) “scrambled” abroad, concludes “rebuilding our country is ultimately the task of none but Japanes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kkan Gendai headline 4/11:  “All NJ have fled Japan”. SPA! 4/12: “Bad NJ” (Asians, Arabs, Africans) massing in Ueno where NPA, Yakuza “order-keeping ability” is w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3154-8201-41EE-A4A2-E1C430D710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Open season on NJ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440" cy="4952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ichi Shimbun 4/25:  Factories crippled by shortage of NJ workers, conjectures that Yokohama Chinatown and entire J textile industry could suffer “serious damage”, if not “fall apar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kyo Sports Shimbun 4/14 blames closure of Tokyo Disneyland not on power outages, but on NJ; says can’t run the facility without NJ dancers in parades (TDL reopens 4/1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70435-C3C4-4461-9230-D2BDF37C2F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The media wave c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26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ahi 3/26: Rumors swirl about “NJ criminal gangs” carrying out muggings, lootings, rapes.  Yet Sankei 4/1 reports no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-cast.com 4/7:  GOJ unusually intervenes to quash internet rumors, avoid debacle of 1923 Kantō earthquake’s mass murder of 100s of Koreans/Chinese etc. due to rumors of well poisonings, rebellion, sabo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7B77-55E5-49D0-9439-34857DB3EE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Restoring s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76276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ngetsu News Agency 4/13:  NPA, ministries establish task force, notify media (including net providers) to eras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 a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ptions of EQ as man-made (3/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ims of EQ caused by NJ terrorism (3/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ritics decry this as censorship, as means to keep information on TEPCO and GOJ from public, avoiding responsibility for disaste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B4C2D-2F75-4F68-B404-9890A996B8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  <a:ea typeface="ＭＳ Ｐゴシック"/>
              </a:rPr>
              <a:t>What was drowned out by the NJ blam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8720" cy="441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omestic reportage on what NJ were doing to help out in disaster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gures on/critique of J “flyjin”, who were also fleeing potential disaster areas (Sankei 3/1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issues of discrimination, such as J fleeing from disaster areas being refused at hotels (Yomiuri 3/18, 4/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43a1b"/>
              </a:buClr>
              <a:buSzPct val="90000"/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accurate info re facts on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3F80-FF37-4B23-A610-47488AAE1E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ranes">
  <a:themeElements>
    <a:clrScheme name="Cranes 1">
      <a:dk1>
        <a:srgbClr val="000000"/>
      </a:dk1>
      <a:lt1>
        <a:srgbClr val="ffffff"/>
      </a:lt1>
      <a:dk2>
        <a:srgbClr val="343a1b"/>
      </a:dk2>
      <a:lt2>
        <a:srgbClr val="808080"/>
      </a:lt2>
      <a:accent1>
        <a:srgbClr val="c05768"/>
      </a:accent1>
      <a:accent2>
        <a:srgbClr val="f8a772"/>
      </a:accent2>
      <a:accent3>
        <a:srgbClr val="ffffff"/>
      </a:accent3>
      <a:accent4>
        <a:srgbClr val="000000"/>
      </a:accent4>
      <a:accent5>
        <a:srgbClr val="dcb4b9"/>
      </a:accent5>
      <a:accent6>
        <a:srgbClr val="e19767"/>
      </a:accent6>
      <a:hlink>
        <a:srgbClr val="3c0000"/>
      </a:hlink>
      <a:folHlink>
        <a:srgbClr val="e9cd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ranes">
  <a:themeElements>
    <a:clrScheme name="Cranes 1">
      <a:dk1>
        <a:srgbClr val="000000"/>
      </a:dk1>
      <a:lt1>
        <a:srgbClr val="ffffff"/>
      </a:lt1>
      <a:dk2>
        <a:srgbClr val="343a1b"/>
      </a:dk2>
      <a:lt2>
        <a:srgbClr val="808080"/>
      </a:lt2>
      <a:accent1>
        <a:srgbClr val="c05768"/>
      </a:accent1>
      <a:accent2>
        <a:srgbClr val="f8a772"/>
      </a:accent2>
      <a:accent3>
        <a:srgbClr val="ffffff"/>
      </a:accent3>
      <a:accent4>
        <a:srgbClr val="000000"/>
      </a:accent4>
      <a:accent5>
        <a:srgbClr val="dcb4b9"/>
      </a:accent5>
      <a:accent6>
        <a:srgbClr val="e19767"/>
      </a:accent6>
      <a:hlink>
        <a:srgbClr val="3c0000"/>
      </a:hlink>
      <a:folHlink>
        <a:srgbClr val="e9cd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ranes">
  <a:themeElements>
    <a:clrScheme name="Cranes 1">
      <a:dk1>
        <a:srgbClr val="000000"/>
      </a:dk1>
      <a:lt1>
        <a:srgbClr val="ffffff"/>
      </a:lt1>
      <a:dk2>
        <a:srgbClr val="343a1b"/>
      </a:dk2>
      <a:lt2>
        <a:srgbClr val="808080"/>
      </a:lt2>
      <a:accent1>
        <a:srgbClr val="c05768"/>
      </a:accent1>
      <a:accent2>
        <a:srgbClr val="f8a772"/>
      </a:accent2>
      <a:accent3>
        <a:srgbClr val="ffffff"/>
      </a:accent3>
      <a:accent4>
        <a:srgbClr val="000000"/>
      </a:accent4>
      <a:accent5>
        <a:srgbClr val="dcb4b9"/>
      </a:accent5>
      <a:accent6>
        <a:srgbClr val="e19767"/>
      </a:accent6>
      <a:hlink>
        <a:srgbClr val="3c0000"/>
      </a:hlink>
      <a:folHlink>
        <a:srgbClr val="e9cd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ranes">
  <a:themeElements>
    <a:clrScheme name="Cranes 1">
      <a:dk1>
        <a:srgbClr val="000000"/>
      </a:dk1>
      <a:lt1>
        <a:srgbClr val="ffffff"/>
      </a:lt1>
      <a:dk2>
        <a:srgbClr val="343a1b"/>
      </a:dk2>
      <a:lt2>
        <a:srgbClr val="808080"/>
      </a:lt2>
      <a:accent1>
        <a:srgbClr val="c05768"/>
      </a:accent1>
      <a:accent2>
        <a:srgbClr val="f8a772"/>
      </a:accent2>
      <a:accent3>
        <a:srgbClr val="ffffff"/>
      </a:accent3>
      <a:accent4>
        <a:srgbClr val="000000"/>
      </a:accent4>
      <a:accent5>
        <a:srgbClr val="dcb4b9"/>
      </a:accent5>
      <a:accent6>
        <a:srgbClr val="e19767"/>
      </a:accent6>
      <a:hlink>
        <a:srgbClr val="3c0000"/>
      </a:hlink>
      <a:folHlink>
        <a:srgbClr val="e9cd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43a1b"/>
      </a:dk2>
      <a:lt2>
        <a:srgbClr val="808080"/>
      </a:lt2>
      <a:accent1>
        <a:srgbClr val="c05768"/>
      </a:accent1>
      <a:accent2>
        <a:srgbClr val="f8a772"/>
      </a:accent2>
      <a:accent3>
        <a:srgbClr val="ffffff"/>
      </a:accent3>
      <a:accent4>
        <a:srgbClr val="000000"/>
      </a:accent4>
      <a:accent5>
        <a:srgbClr val="dcb4b9"/>
      </a:accent5>
      <a:accent6>
        <a:srgbClr val="e19767"/>
      </a:accent6>
      <a:hlink>
        <a:srgbClr val="3c0000"/>
      </a:hlink>
      <a:folHlink>
        <a:srgbClr val="e9cd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acintosh HD:Applications:Microsoft Office 2004:Templates:Presentations:Designs:Cranes</Template>
  <TotalTime>33157</TotalTime>
  <Application>LibreOffice/7.4.7.2$Linux_X86_64 LibreOffice_project/40$Build-2</Application>
  <AppVersion>15.0000</AppVersion>
  <Words>1107</Words>
  <Paragraphs>90</Paragraphs>
  <Company>Hokkaido Information Univers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8:06:11Z</dcterms:created>
  <dc:creator>Arudou  Debito</dc:creator>
  <dc:description/>
  <dc:language>en-US</dc:language>
  <cp:lastModifiedBy>Arudou  Debito</cp:lastModifiedBy>
  <cp:lastPrinted>2012-03-01T22:26:45Z</cp:lastPrinted>
  <dcterms:modified xsi:type="dcterms:W3CDTF">2012-03-19T20:55:35Z</dcterms:modified>
  <cp:revision>189</cp:revision>
  <dc:subject/>
  <dc:title>Japanese On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0</vt:r8>
  </property>
</Properties>
</file>