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  <p:custShowLst>
    <p:custShow name="JSAC 20 mins" id="0">
      <p:sldLst>
        <p:sld r:id="rId5"/>
        <p:sld r:id="rId6"/>
        <p:sld r:id="rId2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293E-EE3B-40ED-BD6B-5BCB4F11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8776-47D4-4509-92F7-882713A4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6AC3-9C18-4BC2-B6EC-D1A1AAE11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A001-D10A-4D9E-BCE7-B0D30CA74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AFCE-CAB6-4165-8780-43633617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C92F-8723-4887-8A35-22154E5A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B844-B156-4B77-9174-02EDD1B0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9726-2625-414B-B592-134C806A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5B6E-BFAC-4B78-A650-7C22A5E9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F3FA-0106-444F-8BF9-9EF8DBB6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1414-C420-467A-915B-95FC7284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D805-F94C-448F-AFD7-651ACFFD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0F43-6545-4FB6-BCFA-0E230EB5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5164-6711-4124-BD3C-E478DA8A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2598-45AF-4B3D-8780-939D6DD1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76C6-EECA-4694-B1BA-19E5082E7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9AC6-B457-4F2C-AE24-A3876A37A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EFB7-0956-4611-BF69-5293FB9F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B0D8-78D3-48EF-A857-A10B9B99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7303-D126-43E5-8C61-432D7F9C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840C-BBD6-4271-8652-F604E5B1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1F78-7308-453D-8DE6-CD6EB176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F7BE-0E21-4C28-90F3-00785DC5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112B-84F6-4554-9023-5EB9A42D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0352-93F1-43A2-BB22-36B4D45111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B086-64F6-4F7F-B420-291E8A1B12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43a1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9297e"/>
                </a:solidFill>
                <a:latin typeface="Arial"/>
              </a:rPr>
              <a:t>Download this powerpoint presentation at: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81952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ww.debito.org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d185a"/>
                </a:solidFill>
                <a:latin typeface="Arial"/>
              </a:rPr>
              <a:t>for</a:t>
            </a:r>
            <a:r>
              <a:rPr b="1" lang="en-US" sz="5400" spc="-1" strike="noStrike">
                <a:solidFill>
                  <a:srgbClr val="970e10"/>
                </a:solidFill>
                <a:latin typeface="Arial"/>
              </a:rPr>
              <a:t>taka</a:t>
            </a:r>
            <a:r>
              <a:rPr b="1" lang="en-US" sz="5400" spc="-1" strike="noStrike">
                <a:solidFill>
                  <a:srgbClr val="0d185a"/>
                </a:solidFill>
                <a:latin typeface="Arial"/>
              </a:rPr>
              <a:t>and</a:t>
            </a:r>
            <a:r>
              <a:rPr b="1" lang="en-US" sz="5400" spc="-1" strike="noStrike">
                <a:solidFill>
                  <a:srgbClr val="970e10"/>
                </a:solidFill>
                <a:latin typeface="Arial"/>
              </a:rPr>
              <a:t>mana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21107.pp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7AD0-8B7F-4EBA-B7DF-AA69D3B317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ivil Court Case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Gowan Case (2004-6):  African-American refused entry into eyeglass store, loses on technicality in lower court, wins on appeal. www.debito.org/mcgowanhanketsu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m Doe Case (2003-7):  Zainichi Korean wins against exclusionary landlord after rental contract signed. www.debito.org/index.php/?p=8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6BA6-AAE3-4D58-B2A1-26492747F6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ivil Court Case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Hoden Case (2000-2007):  Daughter of naturalized Chinese and J bullied to the point of medically-certified PTSD, civil suit against parents of bullies.  Decision due Dec 22, 2007.  www.debito.org/index.php/?p=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7C03-2EC2-4A4C-ADB2-8EB3F2FBAE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NJ disadvantages in Civil Court Case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Japanese citizens, s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oku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ey protections of laws and Constitution can be exploited by defense/jud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put down to cultural issues, misundersta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 Discrimi-nation” holds water as legal argu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rth of multilingual legal couns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to settle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ka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avoid legal precedent or jud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e mediations not always expla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DA5A-B121-4B8F-8FCC-C5DF6DFD7F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Family Court Case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rray Wood Case:  Plaintiff wins in Canadian courts, loses in J cou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 single precedent of NJ being awarded cust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ases at www.crnjapa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yer friend’s opinion:  judiciary wants to keep J kids here due to low birth 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EB07-3997-45CE-839E-DE5F829E28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Disadvantages for NJ in Family Court Case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J have n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osek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amily Registry), so not recognized as family unit to award children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J visas often dependent on marital status; can’t stay after div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real punishment for perjury--lies rampant, and native speakers are better li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tion proces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oute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long, arduous, no legal force, and must damn partner www.debito.org/ thedivorce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joint custody, visitation rights &amp; child support unenfor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FC87-2D32-4B70-A548-1259D7E708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70e1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pan’s divorce rate (95% of seekers are women) is now skyrocketing--rose 6.1% in April 2007 alone. www.debito.org/index.php/?p=8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divorce Japan is a land of Deadbeat Dads and Fortress M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king protection through the Japanese judiciary will probably not work for NJ, so consider alternative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7D8C-5CE2-415D-9C5E-63A6DC55B3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70e1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gue Convention on the Rights of the Child--not signed by Japan.  But doesn’t matter.  Is administrative thing, obfuscates--signing is merely housekeep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Convention on the Rights of the Child--Sec 9--Japan has already signed.  Guarantees visitation to both par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pan’s judiciary is not independent.  You can’t enforce laws properly and impartially when judges are employees of the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so much a matter of the parents’ rights--the child’s rights are being violated. Too often overloo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1838-D145-4D61-B69F-F0D697C7A0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43a1b"/>
                </a:solidFill>
                <a:latin typeface="Arial"/>
              </a:rPr>
              <a:t>More on this and other issues:</a:t>
            </a:r>
            <a:br>
              <a:rPr sz="3600"/>
            </a:br>
            <a:r>
              <a:rPr b="1" lang="en-US" sz="3600" spc="-1" strike="noStrike">
                <a:solidFill>
                  <a:srgbClr val="970e10"/>
                </a:solidFill>
                <a:latin typeface="Arial"/>
              </a:rPr>
              <a:t>www.debito.org</a:t>
            </a:r>
            <a:endParaRPr b="0" lang="en-US" sz="36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SBN  4  7503  9018  6  English version, Japanese version  ISBN  4  7503  9001 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>
            <a:lum contrast="36000"/>
          </a:blip>
          <a:srcRect l="5587" t="0" r="11173" b="0"/>
          <a:stretch/>
        </p:blipFill>
        <p:spPr>
          <a:xfrm>
            <a:off x="1143000" y="1905120"/>
            <a:ext cx="2868480" cy="4343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2900520" cy="4267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38080" y="6324480"/>
            <a:ext cx="723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HANK YOU VERY MUCH FOR ATTENDING THIS PRESENTATIO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8067-5C1A-4584-AC03-4F999D84F8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9297e"/>
                </a:solidFill>
                <a:latin typeface="Arial"/>
              </a:rPr>
              <a:t>Download this powerpoint presentation at: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281952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ww.debito.org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d185a"/>
                </a:solidFill>
                <a:latin typeface="Arial"/>
              </a:rPr>
              <a:t>for</a:t>
            </a:r>
            <a:r>
              <a:rPr b="1" lang="en-US" sz="5400" spc="-1" strike="noStrike">
                <a:solidFill>
                  <a:srgbClr val="970e10"/>
                </a:solidFill>
                <a:latin typeface="Arial"/>
              </a:rPr>
              <a:t>taka</a:t>
            </a:r>
            <a:r>
              <a:rPr b="1" lang="en-US" sz="5400" spc="-1" strike="noStrike">
                <a:solidFill>
                  <a:srgbClr val="0d185a"/>
                </a:solidFill>
                <a:latin typeface="Arial"/>
              </a:rPr>
              <a:t>and</a:t>
            </a:r>
            <a:r>
              <a:rPr b="1" lang="en-US" sz="5400" spc="-1" strike="noStrike">
                <a:solidFill>
                  <a:srgbClr val="970e10"/>
                </a:solidFill>
                <a:latin typeface="Arial"/>
              </a:rPr>
              <a:t>mana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21107.pp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0903-62DA-410F-AF86-7F3804457C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9246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FOR TAKA AND MANA”</a:t>
            </a:r>
            <a:br>
              <a:rPr sz="4400"/>
            </a:b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Race and Japan’s Judiciary</a:t>
            </a:r>
            <a:br>
              <a:rPr sz="4400"/>
            </a:br>
            <a:r>
              <a:rPr b="0" i="1" lang="en-US" sz="2800" spc="-1" strike="noStrike">
                <a:solidFill>
                  <a:srgbClr val="343a1b"/>
                </a:solidFill>
                <a:latin typeface="Arial"/>
              </a:rPr>
              <a:t>A primer by ARUDOU Debito</a:t>
            </a:r>
            <a:br>
              <a:rPr sz="2800"/>
            </a:br>
            <a:r>
              <a:rPr b="0" i="1" lang="en-US" sz="2000" spc="-1" strike="noStrike">
                <a:solidFill>
                  <a:srgbClr val="343a1b"/>
                </a:solidFill>
                <a:latin typeface="Arial"/>
              </a:rPr>
              <a:t>Associate Professor, Hokkaido Information University</a:t>
            </a:r>
            <a:endParaRPr b="0" lang="en-US" sz="20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23880" y="5334120"/>
            <a:ext cx="5943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63680" y="3649680"/>
            <a:ext cx="6603840" cy="218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FF1F-D0DB-4143-93FB-91631CF96A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-531828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57150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my (left) and Anna Sugawara Aldwinckle 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315200" cy="4813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84080" y="189000"/>
            <a:ext cx="76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MY AND 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 rot="16200000">
            <a:off x="-171000" y="1085400"/>
            <a:ext cx="2971800" cy="2629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743200" y="4191120"/>
            <a:ext cx="640080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594A-F719-4F2F-AA22-2BCEAFC0F8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70e10"/>
                </a:solidFill>
                <a:latin typeface="Arial"/>
              </a:rPr>
              <a:t>DISCLAIMER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 am not a qualified legal scho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 am an activ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185a"/>
                </a:solidFill>
                <a:latin typeface="Arial"/>
              </a:rPr>
              <a:t>And my research and conclusions in this field are purposefully colored by my activ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acknowledged, let’s contin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06FE-F908-4407-A2D1-3A9214B275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85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385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38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38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d185a"/>
                </a:solidFill>
                <a:latin typeface="Arial"/>
              </a:rPr>
              <a:t>Trends I am seeing in the J judiciary</a:t>
            </a:r>
            <a:endParaRPr b="0" lang="en-US" sz="36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minal Court cases where if it is NJ crime committed against Japanese, heavy punishment.  But if it is Japanese on NJ crime, or NJ-NJ crime, lax judicial stand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vil Court cases where NJ winning is a crapshoot.  Not a precedent based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 Court cases where NJ winning is practically nonexistent, and NJ plaintiffs are at a severe disadvant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21A1-0922-4A80-8ADB-AB7E3EE18B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riminal Court Case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ubor Case (2006-7):  Nigerian yesterday sentenced to 3 years for alleged J rape despite no material evidence. www.debito.org/index.php/?p=8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ie Blackman Case (2006):  J defendant acquitted of her rape, murder (life conviction on other rapes, murder). www.debito.org/index.php/?p=3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AA6C-E214-4A8B-BBB3-9023629651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riminal Court Case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entine Case (2003-7):  Police exonerated of responsibility despite denying medical care to injured Nigerian prisoner in their custody, who wound up crippled. www.debito.org/japantimes081407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e Doe Case (2002-7):  Police refuse to charge anyone in alleged NJ rape of Australian woman, exonerated of police harassment of woman claimant. www.debito.org/index.php/?p=8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E8EE-1305-4410-9BA0-B6A3A5AD9F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NJ disadvantages in   Criminal Court Case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ified standards for courtroom/police trans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essions extracted through unrecorded, torturous procedures, including language barr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J shouldn’t be here anyway if they’re going to cause trouble”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ictions at 99% for everyone, but no chance of bail for NJ (seen as flight risk).  Meaning freer hand for police interrog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J being singled out for racial profiling by police www.debito.org/whattodoif 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J can commit more crimes than J (ex: J cannot commit visa violations, and NJ can be jailed long enough to run out visa, or have it cancell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4950-F251-48BD-8841-49D34A99E6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ivil Court Case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 Bortz Case (1998-9):  Brazilian refused entry to “Japanese Only” jewelry store wins under UN treaty. www.jpri.org/publications/ workingpapers/wp88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aru Onsens Case (1999-2005):  American, German, and naturalized J (guess who) win against “Japanese Only” bathhouse, lose against do-nothing Otaru City govt. www.debito.org/otarulawsuit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040B-5332-4EB7-8233-96AB433A97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09:25:05Z</dcterms:created>
  <dc:creator>Arudou  Debito</dc:creator>
  <dc:description/>
  <dc:language>en-US</dc:language>
  <cp:lastModifiedBy>Arudou  Debito</cp:lastModifiedBy>
  <dcterms:modified xsi:type="dcterms:W3CDTF">2007-12-21T02:05:08Z</dcterms:modified>
  <cp:revision>117</cp:revision>
  <dc:subject/>
  <dc:title>Japanese Only</dc:title>
</cp:coreProperties>
</file>