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JSAC 20 mins" id="0">
      <p:sldLst>
        <p:sld r:id="rId5"/>
        <p:sld r:id="rId6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013-2DBF-4CD6-BA18-2E4DC496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FD7-8B7D-4AF9-B7EF-69C9787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E5F-9A65-4A1C-8048-38E5CE44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6A2-C8D1-4C35-A973-041D0217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BD78-0395-494B-BE7B-CD8CFB25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EDBB-7F7A-4FEB-8F27-E5240F0D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8175-5BD8-495B-BEB9-741BF286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64DA-7578-405B-B43D-AB7BABAC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EBB4-CF2E-4FDD-85C6-1EEEA2FF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3E53-9FE9-4466-85B9-ECFCE014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0E7C-E000-4287-A4A5-3FB62FC9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936-FF07-4A81-8C2F-34C44838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5EAD-2939-46A5-B8F9-F5631E21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8EC3-F80C-4082-B03B-4A5C28B5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B7EB-0191-4FB4-AD85-914924C9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97F7-96C0-42DF-8137-05A58581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6F0D-5843-422C-B5A5-9A7FE189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3C4-CD9A-40AC-B699-0219ED6A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F2B-84AC-4ECE-896E-EF7F62BD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878-3C7D-4018-9E53-846E9FD7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98C-64C6-45D9-BE45-854789FA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0B2-91E2-4693-BFCF-2459F58E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ED4-CDBE-4906-B25E-8331D89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7B7-B015-440D-867B-187F6333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0F77-99EC-4D03-9209-CEE9F3A9E1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B733-C902-4EF5-9AC3-C4EBF7AB11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9297e"/>
                </a:solidFill>
                <a:latin typeface="Arial"/>
              </a:rPr>
              <a:t>Download this powerpoint presentation at: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81952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ww.debito.org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185a"/>
                </a:solidFill>
                <a:latin typeface="Arial"/>
              </a:rPr>
              <a:t>for</a:t>
            </a:r>
            <a:r>
              <a:rPr b="1" lang="en-US" sz="5400" spc="-1" strike="noStrike">
                <a:solidFill>
                  <a:srgbClr val="970e10"/>
                </a:solidFill>
                <a:latin typeface="Arial"/>
              </a:rPr>
              <a:t>taka</a:t>
            </a:r>
            <a:r>
              <a:rPr b="1" lang="en-US" sz="5400" spc="-1" strike="noStrike">
                <a:solidFill>
                  <a:srgbClr val="0d185a"/>
                </a:solidFill>
                <a:latin typeface="Arial"/>
              </a:rPr>
              <a:t>and</a:t>
            </a:r>
            <a:r>
              <a:rPr b="1" lang="en-US" sz="5400" spc="-1" strike="noStrike">
                <a:solidFill>
                  <a:srgbClr val="970e10"/>
                </a:solidFill>
                <a:latin typeface="Arial"/>
              </a:rPr>
              <a:t>man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1107.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85E-7515-4CD7-B9FE-8FFDD55792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ivi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owan Case (2004-6):  African-American refused entry into eyeglass store, loses on technicality in lower court, wins on appeal. www.debito.org/mcgowanhanketsu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m Doe Case (2003-7):  Zainichi Korean wins against exclusionary landlord after rental contract signed. www.debito.org/index.php/?p=8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DF6-A243-4A68-86E1-0E273DEF18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ivi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Hoden Case (2000-2007):  Daughter of naturalized Chinese and J bullied to the point of medically-certified PTSD, civil suit against parents of bullies.  Decision due Dec 22, 2007.  www.debito.org/index.php/?p=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A10-6676-495F-9FD8-1C57DA2BC6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NJ disadvantages in Civi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Japanese citizens, 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oku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ey protections of laws and Constitution can be exploited by defense/jud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put down to cultural issues, misundersta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Discrimi-nation” holds water as legal arg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th of multilingual legal coun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to settl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k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void legal precedent or jud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diations not always expl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4B0-0146-43B5-8A71-2AE8CAB67E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Family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rray Wood Case:  Plaintiff wins in Canadian courts, loses in J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single precedent of NJ being awarded cust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ses at www.crnjapa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yer friend’s opinion:  judiciary wants to keep J kids here due to low birth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4E3-9EA7-4FAC-B332-7DA1AC74CD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Disadvantages for NJ in Family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 have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ose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amily Registry), so not recognized as family unit to award children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 visas often dependent on marital status; can’t stay after div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al punishment for perjury--lies rampant, and native speakers are better li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tion proce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out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long, arduous, no legal force, and must damn partner www.debito.org/ thedivorc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joint custody, visitation rights &amp; child support unenfor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2B3-F0D4-41D9-A47E-FC91499331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70e1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’s divorce rate (95% of seekers are women) is now skyrocketing--rose 6.1% in April 2007 alone. www.debito.org/index.php/?p=8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divorce Japan is a land of Deadbeat Dads and Fortress M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ing protection through the Japanese judiciary will probably not work for NJ, so consider alternative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18B-11E4-4332-A6B7-0F8499E4DA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70e1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gue Convention on the Rights of the Child--not signed by Japan.  But doesn’t matter.  Is administrative thing, obfuscates--signing is merely housekee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onvention on the Rights of the Child--Sec 9--Japan has already signed.  Guarantees visitation to both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’s judiciary is not independent.  You can’t enforce laws properly and impartially when judges are employees of the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o much a matter of the parents’ rights--the child’s rights are being violated. Too often over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567-A4E7-46E1-9238-EB6C07AD9C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a1b"/>
                </a:solidFill>
                <a:latin typeface="Arial"/>
              </a:rPr>
              <a:t>More on this and other issues:</a:t>
            </a:r>
            <a:br>
              <a:rPr sz="3600"/>
            </a:br>
            <a:r>
              <a:rPr b="1" lang="en-US" sz="3600" spc="-1" strike="noStrike">
                <a:solidFill>
                  <a:srgbClr val="970e10"/>
                </a:solidFill>
                <a:latin typeface="Arial"/>
              </a:rPr>
              <a:t>www.debito.org</a:t>
            </a:r>
            <a:endParaRPr b="0" lang="en-US" sz="36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SBN  4  7503  9018  6  English version, Japanese version  ISBN  4  7503  9001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contrast="36000"/>
          </a:blip>
          <a:srcRect l="5587" t="0" r="11173" b="0"/>
          <a:stretch/>
        </p:blipFill>
        <p:spPr>
          <a:xfrm>
            <a:off x="1143000" y="1905120"/>
            <a:ext cx="2868480" cy="4343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2900520" cy="4267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6324480"/>
            <a:ext cx="723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ANK YOU VERY MUCH FOR ATTENDING THIS PRESENTATI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838-0843-4FAD-A5C4-592C2C5E2E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9297e"/>
                </a:solidFill>
                <a:latin typeface="Arial"/>
              </a:rPr>
              <a:t>Download this powerpoint presentation at: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81952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ww.debito.org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185a"/>
                </a:solidFill>
                <a:latin typeface="Arial"/>
              </a:rPr>
              <a:t>for</a:t>
            </a:r>
            <a:r>
              <a:rPr b="1" lang="en-US" sz="5400" spc="-1" strike="noStrike">
                <a:solidFill>
                  <a:srgbClr val="970e10"/>
                </a:solidFill>
                <a:latin typeface="Arial"/>
              </a:rPr>
              <a:t>taka</a:t>
            </a:r>
            <a:r>
              <a:rPr b="1" lang="en-US" sz="5400" spc="-1" strike="noStrike">
                <a:solidFill>
                  <a:srgbClr val="0d185a"/>
                </a:solidFill>
                <a:latin typeface="Arial"/>
              </a:rPr>
              <a:t>and</a:t>
            </a:r>
            <a:r>
              <a:rPr b="1" lang="en-US" sz="5400" spc="-1" strike="noStrike">
                <a:solidFill>
                  <a:srgbClr val="970e10"/>
                </a:solidFill>
                <a:latin typeface="Arial"/>
              </a:rPr>
              <a:t>man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1107.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FE2-94BB-4C42-B1B3-7856F6908D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FOR TAKA AND MANA”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ace and Japan’s Judiciary</a:t>
            </a:r>
            <a:br>
              <a:rPr sz="4400"/>
            </a:br>
            <a:r>
              <a:rPr b="0" i="1" lang="en-US" sz="2800" spc="-1" strike="noStrike">
                <a:solidFill>
                  <a:srgbClr val="343a1b"/>
                </a:solidFill>
                <a:latin typeface="Arial"/>
              </a:rPr>
              <a:t>A primer by ARUDOU Debito</a:t>
            </a:r>
            <a:br>
              <a:rPr sz="2800"/>
            </a:br>
            <a:r>
              <a:rPr b="0" i="1" lang="en-US" sz="2000" spc="-1" strike="noStrike">
                <a:solidFill>
                  <a:srgbClr val="343a1b"/>
                </a:solidFill>
                <a:latin typeface="Arial"/>
              </a:rPr>
              <a:t>Associate Professor, Hokkaido Information University</a:t>
            </a:r>
            <a:endParaRPr b="0" lang="en-US" sz="2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5334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63680" y="3649680"/>
            <a:ext cx="6603840" cy="21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1287-C9E1-480B-A73F-1241627FA2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531828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my (left) and Anna Sugawara Aldwinckle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315200" cy="481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84080" y="189000"/>
            <a:ext cx="76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MY AND 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16200000">
            <a:off x="-171000" y="1085400"/>
            <a:ext cx="2971800" cy="262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640080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F14-4037-432E-9CCC-3A25FF831C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70e10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am not a qualified legal scho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am an activ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185a"/>
                </a:solidFill>
                <a:latin typeface="Arial"/>
              </a:rPr>
              <a:t>And my research and conclusions in this field are purposefully colored by my activ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acknowledged, let’s contin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1502-4024-454B-85E9-EBB9F35B54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d185a"/>
                </a:solidFill>
                <a:latin typeface="Arial"/>
              </a:rPr>
              <a:t>Trends I am seeing in the J judiciary</a:t>
            </a:r>
            <a:endParaRPr b="0" lang="en-US" sz="36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inal Court cases where if it is NJ crime committed against Japanese, heavy punishment.  But if it is Japanese on NJ crime, or NJ-NJ crime, lax judicial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Court cases where NJ winning is a crapshoot.  Not a precedent based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Court cases where NJ winning is practically nonexistent, and NJ plaintiffs are at a severe disadvan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88C-A810-4E2B-B12A-661EF06718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rimina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ubor Case (2006-7):  Nigerian yesterday sentenced to 3 years for alleged J rape despite no material evidence. www.debito.org/index.php/?p=8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ie Blackman Case (2006):  J defendant acquitted of her rape, murder (life conviction on other rapes, murder). www.debito.org/index.php/?p=3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06F-4AE2-4213-BC52-F164C1D82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rimina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tine Case (2003-7):  Police exonerated of responsibility despite denying medical care to injured Nigerian prisoner in their custody, who wound up crippled. www.debito.org/japantimes081407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Doe Case (2002-7):  Police refuse to charge anyone in alleged NJ rape of Australian woman, exonerated of police harassment of woman claimant. www.debito.org/index.php/?p=8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092-CBC4-40FA-A21B-3FBB502211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NJ disadvantages in   Crimina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ified standards for courtroom/police trans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ssions extracted through unrecorded, torturous procedures, including language b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 shouldn’t be here anyway if they’re going to cause trouble”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ictions at 99% for everyone, but no chance of bail for NJ (seen as flight risk).  Meaning freer hand for police interrog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J being singled out for racial profiling by police www.debito.org/whattodoif 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J can commit more crimes than J (ex: J cannot commit visa violations, and NJ can be jailed long enough to run out visa, or have it cance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6E0-A84E-46E5-80C6-9A54DC6F0B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ivi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 Bortz Case (1998-9):  Brazilian refused entry to “Japanese Only” jewelry store wins under UN treaty. www.jpri.org/publications/ workingpapers/wp88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aru Onsens Case (1999-2005):  American, German, and naturalized J (guess who) win against “Japanese Only” bathhouse, lose against do-nothing Otaru City govt. www.debito.org/otarulawsui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56E-8D9A-4ACE-AEAA-5C40A6678D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9:25:05Z</dcterms:created>
  <dc:creator>Arudou  Debito</dc:creator>
  <dc:description/>
  <dc:language>en-US</dc:language>
  <cp:lastModifiedBy>Arudou  Debito</cp:lastModifiedBy>
  <dcterms:modified xsi:type="dcterms:W3CDTF">2007-12-21T02:05:08Z</dcterms:modified>
  <cp:revision>117</cp:revision>
  <dc:subject/>
  <dc:title>Japanese Only</dc:title>
</cp:coreProperties>
</file>