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0.jpeg" ContentType="image/jpeg"/>
  <Override PartName="/ppt/media/image5.png" ContentType="image/png"/>
  <Override PartName="/ppt/media/image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DE52-1A15-430A-BB45-92FA3B5C7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AB4D-FD86-470C-9F25-D2D24E3D8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B46E-CB01-4B21-8E38-4681BC44E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25A6-8795-4B0A-8656-866E3F481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FE81-E6FE-4696-A294-92D836010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C7BB-12C3-40A5-AE34-5DC71C78C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2250-C46A-49C6-856A-A44AD5CA0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DCC0-3A10-490E-8B02-79FBC704A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B2BE-A425-48A1-85FF-17AA6352A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9541-FD27-4347-B81D-F3530CF45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7317-6FEE-433F-8912-7FF1DA229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B579-8BC2-4B50-9FE0-C71ABC210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28680-4C31-4F0E-8E56-7AA96FB322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mposium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シンポジュー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ly 6, 2008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D83B-59AA-4871-ACD9-4A3E231F854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042920" y="0"/>
            <a:ext cx="6862680" cy="68547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283560" y="5084640"/>
            <a:ext cx="16880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wn Produc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812000" y="2924280"/>
            <a:ext cx="1076400" cy="360360"/>
          </a:xfrm>
          <a:prstGeom prst="borderCallout1">
            <a:avLst>
              <a:gd name="adj1" fmla="val 18750"/>
              <a:gd name="adj2" fmla="val -8333"/>
              <a:gd name="adj3" fmla="val 80175"/>
              <a:gd name="adj4" fmla="val -93657"/>
            </a:avLst>
          </a:prstGeom>
          <a:noFill/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13800" y="17733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867080" y="164772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2576-B5C9-4AA3-9E18-82F67EF629B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n we change this trend?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流れを変えることはできるか？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Yes, By Food Education,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教育、食育である程度は可能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Back to basic, Change Diet Pattern, 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流れを変えるには、食事の内容を見直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Back to traditional Japanese dishes,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日本古来の食材を利用する方向へ意識を変え、教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Western Meal 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Self sufficiency (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自給率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) is only 17%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Meat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肉、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Bread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パン、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oup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スープ、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Veg. Salad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野菜サラダ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Japanese Meal  Self sufficiency (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自給率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) is 70%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Rice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ごはん、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Miso Soup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味噌汁、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Grilled Fish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焼き魚、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Boiled Spinaches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ホウレンソウのおひたし、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P0tato 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じゃがいもの煮っ転がし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hina is the main supplier to Japan for processed food,                              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中国が食品加工、食糧供給基地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Japanese Consumers are having second thoughts after incidents of poison contaminated Gyoza last year                  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昨年の毒餃子問題で一気に見直し機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Back to own cooking rather than dependency of frozen food                       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冷凍食品依存から、国内材料、自分で調理する方向への回帰が顕著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Higher Concern on Food Safety                         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食の安全に対する意識が高ま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AAE6-9BE4-4218-A7B5-893927616FD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547640" y="1125360"/>
            <a:ext cx="6096240" cy="46483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826920" y="3645000"/>
            <a:ext cx="7777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81800" y="2421000"/>
            <a:ext cx="15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stern M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08000" y="450864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panese M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795440" y="229716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66720" y="438480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236000" y="19890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251840" y="2193840"/>
            <a:ext cx="183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096680" y="1844640"/>
            <a:ext cx="191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mestic Calor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3600" y="3860640"/>
            <a:ext cx="191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mestic Calor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91AE-ADE3-4DBB-962A-328886A76F5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o produces food?,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誰が作るのか？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tified Large Scales Family Farmers       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大規模化した農家（認定農業者）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3,41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poration Far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農業生産法人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46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ral Community Farm                   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集落営農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　　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3,06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nies                                      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法人（建設業、食品加工、流通業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8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farmers   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新規就農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scale farmers    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小規模農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dies and senior farmers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女性、高齢農業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313E-B03A-4DC8-A051-80589984698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trend, Companies expand farming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新しい動き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法人の農業参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nies start and expand farming                                             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法人の農業参入、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81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法人（非農業部門からの参入）が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96ha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の土地を借りて耕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ccess stories in family restaurant chain and convenience store chain                                                                                                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いくつかの成功例、外食産業、コンビニチェー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cern by consumers for safer, healthier food drove those companies to own production in order to secure true safety              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健康志向、安全志向、購入、仕入れ型から生産活動への進出希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5% of those companies want to expand production further          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面積増加を希望する法人は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spicion at farmers side with very little trust                                 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その反面、農家側の不安は根強い（信頼感なし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clarity of land usage and no guarantee for rent period              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用途不明、貸出期間の保証がなく不安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mited intermediary agency functions to bridge two parties tends, miss match in information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仲介機能の欠如、情報のミスマッ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B40F-8299-46AA-A237-8C866C74994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ew Entry to Farming by Individuals</a:t>
            </a:r>
            <a:br>
              <a:rPr sz="36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個人の就農希望者と新規参入の障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not purchase farm land, only rent out                                      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農地を買えない　（しかし、借りることはできる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nt only for farming, strictly limited usage                                    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農地の利用制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ire large initial investment                                                       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初期投資（土地、建物、機械等）が大き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kes time to learn all necessary skills for farming                         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農業生産技術の習得に時間がかか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iculty in finding solid and stable sales channel                          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販売ルートの開拓、市場開拓が困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new farmers overcoming these difficulties                      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これらの困難を乗り越えようとする新規就農者の数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ion Wide,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全国で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,00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kkaido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北海道全体で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9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名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Grad.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新卒就農者　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23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名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 Turn   U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ターン就農者　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03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名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Entries/Settlement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新規参入者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9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F382-76ED-40B5-8A86-4C1EFF825EE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Movement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新しい農業の流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Professional Management as Company &amp; Business     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　　　　　　　　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事業として、企業として、プロ経営を行えば、事業の継続は十分に可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Risk Management, Risk Identification, Diversification, Minimization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リスク管理の徹底、リスクの把握、分散化、最小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ja-JP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Industry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新しい流れ、付加価値の創出　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次産業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Primary (1</a:t>
            </a:r>
            <a:r>
              <a:rPr b="0" lang="ja-JP" sz="1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) Industry 1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次産業（生産）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econdary (2</a:t>
            </a:r>
            <a:r>
              <a:rPr b="0" lang="ja-JP" sz="1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) Industry 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次産業（加工）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Tertiary (3</a:t>
            </a:r>
            <a:r>
              <a:rPr b="0" lang="ja-JP" sz="1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) Industry 3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次産業（観光、サービス産業）＝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次産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griculture was production activity, nothing for processing nor distribution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農業は作っただけで終わり、流通、加工は他に依存してい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Interaction among agriculture sector and other industries                  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６次化の試み、実績、農業と関連産業の連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High value added products, own sales and distribution channel      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高付加価値化、販路の確保、魅力的な加工品開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gri Business, Green Tourism 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アグリビジネス、グリーンツーリズム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農業体験、農家レストラン、ファームイン、直売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CFB6-EF43-4D1C-A4C5-5132D0809F6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griculture in Hokkaido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北海道の特性を活かす農業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ol and dry summer, extremely cold winter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冷涼な気候、厳しい冬の気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gle crop, large scale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単作、大規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ting larger, 20ha on average, 15 times bigger than other part of Japan                    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規模拡大の進展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0ha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本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.3ha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と比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倍程度の大き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ng distance to major markets        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一方、大規模消費地までの距離は大き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ddy fields and fields are taking 70% of entire cultivatable area                 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水田、畑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小麦、雑穀、豆類、イモ類、野菜等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vestock farms are the rest, 30%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畜産　　　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肉用牛、乳用牛、牛乳（酪農））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2C4E-E77E-4B46-8F58-8E430325C66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kkaido, how big is it?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　</a:t>
            </a:r>
            <a:br>
              <a:rPr sz="40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北海道と日本全国の比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457200" y="1600200"/>
          <a:ext cx="8229240" cy="4524840"/>
        </p:xfrm>
        <a:graphic>
          <a:graphicData uri="http://schemas.openxmlformats.org/drawingml/2006/table">
            <a:tbl>
              <a:tblPr/>
              <a:tblGrid>
                <a:gridCol w="3347280"/>
                <a:gridCol w="1801080"/>
                <a:gridCol w="1801080"/>
                <a:gridCol w="1279800"/>
              </a:tblGrid>
              <a:tr h="878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pan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日本全体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okkai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北海道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ha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8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arm Land (ha)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農地面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690,0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170,0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.9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0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arms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農家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850,0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,0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8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armers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農業就業人口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350,0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1,0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9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duction Value (US$ mil)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農業生産額（億円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4,88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,66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.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75AA-544B-4048-9ABB-5890773D2E2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fficulties in Hokkaido Agriculture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北海道農業の現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496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tough environment across Hokkaido                        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環境面で追い風、しかしながら足元は逆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gration of production age group out of Hokkaido         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生産人口の道外流出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ntration to Sapporo area, leaving their own villages and towns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残った道民の札幌への一極集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drop in farm numbers by 15.4%                                 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農家戸数が大きく減少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5.4%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減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0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年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9,841 -&gt;  2005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年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9,000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ographic issues lead to serious shortage in production age group,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人口問題、担い手不足がますます深刻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 of farmers dropped by 13.8%                 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農業就業人口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.8 %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減少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年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2,387 -&gt; 200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年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1,49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4941-3F76-43B6-A3FF-4913785FE97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s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目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ckground          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バックグラン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Import Dependency 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輸入農産物への高い依存の理由は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y Corrective Actions?  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増産、自給率改善の方策は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Change Diet Patterns?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食事のパターンを変えることは可能か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o Produces ?  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増産を担うのは誰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Entries by Large Scale Firms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法人の農業参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Individual Farmers 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新規就農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Trend in Agriculture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新しい農業の流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kkaido for the Best for Farms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北海道の特性を活かす農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6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dustry             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北海道を活か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次産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rms in Hokkaido        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北海道農業の現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Homma Farm   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本間農場の現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mma Farm in Future 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本間農場の今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77AE-AE02-45D2-805B-523836047E8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Industry to vitalize Hokkaido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北海道を活か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次産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Agriculture Sector  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農業分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Rice production is enjoying good reputation 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米作りが元気になっ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Good taste, high quality and better price      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美味、高品質、高価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Large scale production with less cost           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大規模農業、低い生産コス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Improvement of species by gene                  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寒冷地に合ったコメの品種改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Global warming                                             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地球温暖化と生産適地の北方移動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Tourism  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ツーリズ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Reasonable airfare and package tour cost lead more tourists to Hokkaido                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航空運賃の低下、ツアー料金の低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Many foreigner are visiting Hokkaido for great nature, hot spring and nice food        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雄大な自然、温泉やおいしい食材を求め海外からの訪問客が増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Niseko attracts many Australian skiers and snowboarders with so many new condominiums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二セコにはオーストラリア人を中心に冬のスキー客が大幅に増加、コンドミニアムの建設ラッシ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Many tourists are coming from Asian countries in green season                               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冬だけではなく、グリーンシーズン中のアジアからの来訪者、滞在者が増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Number of agri-touring facilities in Hokkaido counts 1,849, which doubled in last 7 years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北海道全体ではアグリツーリズム関連施設は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1,849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年間で倍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434E-BE7A-426D-B609-6622FCFDDD5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619280" y="189000"/>
            <a:ext cx="6192720" cy="6669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6000" y="568440"/>
            <a:ext cx="282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act of Global War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83080" y="1792440"/>
            <a:ext cx="178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ce P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83080" y="4384800"/>
            <a:ext cx="191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e P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342520" y="141300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203440" y="1360440"/>
            <a:ext cx="85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60’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356A-375B-415D-A30C-A992C201C86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mma Farm, Current Status</a:t>
            </a:r>
            <a:br>
              <a:rPr sz="40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間農場の現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tarted 3 years ago                                                                             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年前に農地を入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Commute every month from Yokohama, from May to October               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横浜から５月から１０月の間、毎月通う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trong support by local professional farmer                                            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現地プロ農家の機械力に依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Full dependency on him for any heavy lifting                                         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機械力を要する重い作業の提供を依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Creating healthy soil                                                      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健康な土づく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Learning technique for Niseko’s specific weather, soil for best cropping 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栽培技術を勉強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Market survey, market development                     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市場調査、市場開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Networking                                                                   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ネットワーク作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ettle down in a few years               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今後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2-3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年で定住し、本格的に始めたい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7D1C-5599-44B1-A246-D8B00B0BEFA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3D9B-373C-4B03-A43F-FF5A7E31D5F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-1523880" y="-1143000"/>
            <a:ext cx="12191760" cy="9144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0670-D119-483D-8E2F-24A78E404BE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619280" y="-674640"/>
            <a:ext cx="5964120" cy="82090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3710880" y="62064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ato Full Cour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564000" y="115920"/>
            <a:ext cx="239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ma Farm Spe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A103-0F15-4E6E-8972-244E8EE5F92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rcRect l="1648" t="14996" r="0" b="0"/>
          <a:stretch/>
        </p:blipFill>
        <p:spPr>
          <a:xfrm>
            <a:off x="0" y="0"/>
            <a:ext cx="10717200" cy="6946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8858-C253-4E66-B9C9-CEFFFD6CD7C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-1523880" y="-1143000"/>
            <a:ext cx="12191760" cy="9144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1048-95DE-435D-AA73-94C12EBC15A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mma Farm in Future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間農場の今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Land,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さらに今後、農地を追加する予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y Organic Farming Method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有機野菜の需要増加に対応し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anic Japanese Agriculture Standard (JAS)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の認定を目指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需要増、市場規模の拡大により、オーガニック野菜の生産農家の増加傾向が続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co Farmers      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　　　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11,000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lume of JAS certified product, 48,000 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慢性的な供給不足の状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neyard and Winery                                                                                  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ワイン用ブドウ畑も併設、将来のワイナリーも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rb Garden, English Garden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も併設予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anic Restaurants                                                                                   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有機野菜レストランを作ることができれば最高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joy beautiful scenery, nice food, nice wine, beautiful garden together for quality life                                                                                                     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自分も訪問する人もいっしょに楽しめる農場を作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4041-2201-45F3-8E91-01CCE4E1E3C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-1260360" y="-819000"/>
            <a:ext cx="12191760" cy="9144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9193-9808-4301-A602-EF3F85496ED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ground: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バックグランド、背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ce Hike in Corn, Soy Bean, Crude Oil &amp; Other                                          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食糧価格の高騰、原油価格の高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ce Hike in Fertilizer by 60%                                                          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肥料価格の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0%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値上げ、食料価格の上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ep Increase in Demand by China, India with Large Population with Economic Growth                                                                     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大消費国の需要増（原油、食料、肥料用原料、他の一次産品が同じ状況になるリスク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f Sufficiency Ratio of Japan is only 39%, Lowest among G8,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自給率が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9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パーセント、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8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の中では最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Import Dependency and Stagnant Domestic Farming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         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輸入依存増加と国内生産の低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not keep this high dependency any more                                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このまま輸入に依存できない状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should we do then?                                                                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では何をやるか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F8FC-275A-48EB-BA2F-8D545FB1375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-1523880" y="-1143000"/>
            <a:ext cx="12191760" cy="9144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025A-8D92-4524-A853-1CEB72DD465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-1523880" y="-1143000"/>
            <a:ext cx="12191760" cy="9144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2C70-86D0-4753-A897-CAEAB49D4B1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-1523880" y="-1143000"/>
            <a:ext cx="11185560" cy="8389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278A-6EAD-455C-B183-0CFE8DD7DC2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-1523880" y="-1143000"/>
            <a:ext cx="12191760" cy="9144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0462-65D1-4681-8AA1-7D828E4E62B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-1523880" y="-1143000"/>
            <a:ext cx="12191760" cy="9144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17C4-4581-4E38-A2F8-0600EC032556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apan is the lowest: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日本の自給率は最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611280" y="1135080"/>
          <a:ext cx="7993080" cy="5570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135080"/>
                    <a:ext cx="7993080" cy="557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2CF3-6462-4B59-959D-BF67CD22BD3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torical Change in Food Self Sufficiency in Major Countrie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主要国の食糧自給率：歴史的な変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79280" y="1989000"/>
            <a:ext cx="8856720" cy="43498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292720" y="5445000"/>
            <a:ext cx="66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ap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84720" y="2924280"/>
            <a:ext cx="73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351120" y="39322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rm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217640" y="436392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.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077440" y="4292640"/>
            <a:ext cx="69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.S.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6C2C-13DB-4D4B-B8EB-A1A07F2C624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Trade Balance of Agri Products</a:t>
            </a:r>
            <a:br>
              <a:rPr sz="4000"/>
            </a:b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農産物輸出入額の比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457200" y="1600200"/>
          <a:ext cx="8229600" cy="4703760"/>
        </p:xfrm>
        <a:graphic>
          <a:graphicData uri="http://schemas.openxmlformats.org/drawingml/2006/table">
            <a:tbl>
              <a:tblPr/>
              <a:tblGrid>
                <a:gridCol w="2214720"/>
                <a:gridCol w="2004840"/>
                <a:gridCol w="2005200"/>
                <a:gridCol w="2004840"/>
              </a:tblGrid>
              <a:tr h="714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US$100mil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mport(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輸入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port(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輸出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et(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バランス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p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3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2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erma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i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8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d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.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ustral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razi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3755-1260-4D29-8289-F6D68A991AF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agriculture in Japan became so fragile?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日本の農業衰退の原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ong free trade pressure and stopping subsidies to farm products                                                                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農産物輸入への強い圧力と農業保護政策の見直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ke in production cost, yet stagnant sales prices        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生産コストの高騰と農産物価格の低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subsidy, loss making, stop planting                      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補助金の廃止、収益性がない、生産中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 in abandoned farm lands and fields               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耕作放棄地の増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er number of children in aging society, demographic concentration to major cities                     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人口少子高齢化、都市への一極集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ld farmers, small scale farms without successors      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高齢化した農民、小規模農家、後継者不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 in diet pattern, cooking pattern and demand    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食事パターン、調理パターン、需要の変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70AB-9035-4550-B7F9-F5D84DF2D5A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o much dependency on imported food?</a:t>
            </a:r>
            <a:br>
              <a:rPr sz="28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輸入に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割を頼らざるをえない原因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Change in diet pattern toward western food (meat, bread and pasta, dairy products)                                                                                   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食のパターンの変化、洋風化（肉、パンやパスタ、乳製品への依存が高まってきた。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Eating out, outsourced cooking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外食化　食の外部化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Higher dependency on ready to eat, cooked meals                          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調理済み加工食品への依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Double income families with very short cooking time                        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共働き世帯の増加、調理時間短縮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More single household, eating alone, eating out                               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単身世帯の増加、個食化、外食化　（単身世帯は材料から料理することが少ない傾向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Demand for cheap, stable quality and supply volume though out seasons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調理、加工用に安価、品質が均一、年間を通し安定した供給を求められたが、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Demands were met from imported food rather than from domestic supply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これらの変化に国内生産が対応でき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Import from overseas direct, Japanese manufactures established in those countries to process food and export to Japan                       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海外生産地からの直接輸入や、法人の海外投資、海外現地法人から加工品の輸入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3586-DBBC-4790-871C-7280285D2B8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lories Breakdown (/person/day)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摂取カロリーの食品別内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457200" y="1600200"/>
          <a:ext cx="8229600" cy="5024520"/>
        </p:xfrm>
        <a:graphic>
          <a:graphicData uri="http://schemas.openxmlformats.org/drawingml/2006/table">
            <a:tbl>
              <a:tblPr/>
              <a:tblGrid>
                <a:gridCol w="1811160"/>
                <a:gridCol w="1703520"/>
                <a:gridCol w="1631880"/>
                <a:gridCol w="1622520"/>
                <a:gridCol w="1460520"/>
              </a:tblGrid>
              <a:tr h="605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kca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omest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mpor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ice 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ivestock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肉類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ats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油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heat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小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gar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砂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ish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　魚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egetable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野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oybeans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大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uits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くだも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s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その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　合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7F87-F573-467B-AE71-CB20A344C83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03:23:05Z</dcterms:created>
  <dc:creator>abs</dc:creator>
  <dc:description/>
  <dc:language>en-US</dc:language>
  <cp:lastModifiedBy>abs</cp:lastModifiedBy>
  <dcterms:modified xsi:type="dcterms:W3CDTF">2008-07-04T20:49:41Z</dcterms:modified>
  <cp:revision>54</cp:revision>
  <dc:subject/>
  <dc:title>シンポジューム</dc:title>
</cp:coreProperties>
</file>