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F23-12D3-4D40-8F92-2FCC7DF9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48B-E3B0-422D-9500-73B0EA34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157-72DB-4B86-83E2-BAB6AA07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95C-F3C0-4FFB-943C-DEB416C7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8AD-F068-4B6A-A2F0-2CB122B1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6CF-2BA4-4D2D-BB3A-3194F48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FD8-5936-4EE7-A2CA-2912C3D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697-97AF-405D-9002-F9EF6B9D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DCB-6908-4399-AC14-1BEFB1F5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388-6A55-4B39-9515-9F3A673D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AA9-3E68-41ED-8122-6E014E75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13B-D295-423B-9567-851CC49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7294-AF8C-4439-AED4-A8B6C448F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osium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ンポジュー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6,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5E5-5E3C-499D-B476-D8CCE70639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862680" cy="685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83560" y="5084640"/>
            <a:ext cx="1688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 P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2924280"/>
            <a:ext cx="1076400" cy="360360"/>
          </a:xfrm>
          <a:prstGeom prst="borderCallout1">
            <a:avLst>
              <a:gd name="adj1" fmla="val 18750"/>
              <a:gd name="adj2" fmla="val -8333"/>
              <a:gd name="adj3" fmla="val 80175"/>
              <a:gd name="adj4" fmla="val -93657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1773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67080" y="164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B24-EBB9-480A-A58C-E7AC3324B6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we change this trend?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れを変えることはできるか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Yes, By Food Education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教育、食育である程度は可能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to basic, Change Diet Pattern,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流れを変えるには、食事の内容を見直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to traditional Japanese dishes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本古来の食材を利用する方向へ意識を変え、教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estern Meal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elf sufficiency 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自給率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is only 17%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a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肉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read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パン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ou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スープ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eg. Salad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野菜サラ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panese Meal  Self sufficiency 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自給率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is 70%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ic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ごはん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iso Sou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味噌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illed Fis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焼き魚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iled Spinaches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ホウレンソウのおひたし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0tato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じゃがいもの煮っ転が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ina is the main supplier to Japan for processed food,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中国が食品加工、食糧供給基地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apanese Consumers are having second thoughts after incidents of poison contaminated Gyoza last year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の毒餃子問題で一気に見直し機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to own cooking rather than dependency of frozen food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冷凍食品依存から、国内材料、自分で調理する方向への回帰が顕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er Concern on Food Safety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食の安全に対する意識が高ま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E50-A4C1-41E7-AD8A-61511A0A3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648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3645000"/>
            <a:ext cx="777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1800" y="2421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440" y="2297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66720" y="43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19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51840" y="21938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6680" y="1844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stic Cal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3600" y="3860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stic Cal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21D-275B-484E-80B2-D5528F004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produces food?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誰が作るのか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ed Large Scales Family Farmers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規模化した農家（認定農業者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,4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on Fa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農業生産法人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4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Community Farm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集落営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,0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ies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（建設業、食品加工、流通業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armers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規就農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cale farmers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規模農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ies and senior farmers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女性、高齢農業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82F-CA5C-444B-938E-A072B4909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rend, Companies expand farming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しい動き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法人の農業参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ies start and expand farming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法人の農業参入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法人（非農業部門からの参入）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96h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土地を借りて耕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 stories in family restaurant chain and convenience store chain              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いくつかの成功例、外食産業、コンビニチェー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by consumers for safer, healthier food drove those companies to own production in order to secure true safety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健康志向、安全志向、購入、仕入れ型から生産活動への進出希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% of those companies want to expand production further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面積増加を希望する法人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icion at farmers side with very little trust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の反面、農家側の不安は根強い（信頼感な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arity of land usage and no guarantee for rent period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途不明、貸出期間の保証がなく不安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intermediary agency functions to bridge two parties tends, miss match in information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仲介機能の欠如、情報のミスマッ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C19-9831-4DC6-AC0D-F1620E58F9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Entry to Farming by Individuals</a:t>
            </a:r>
            <a:br>
              <a:rPr sz="36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の就農希望者と新規参入の障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not purchase farm land, only rent out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を買えない　（しかし、借りることは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 only for farming, strictly limited usage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の利用制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large initial investment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初期投資（土地、建物、機械等）が大き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time to learn all necessary skills for farming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業生産技術の習得に時間がかか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y in finding solid and stable sales channel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販売ルートの開拓、市場開拓が困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ew farmers overcoming these difficulties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これらの困難を乗り越えようとする新規就農者の数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 Wide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国で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,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kkaido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海道全体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Grad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卒就農者　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名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Turn   U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ターン就農者　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ntries/Settlement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規参入者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061-F969-426B-A561-8DA1F467C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Movemen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しい農業の流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fessional Management as Company &amp; Business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事業として、企業として、プロ経営を行えば、事業の継続は十分に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isk Management, Risk Identification, Diversification, Minimizatio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リスク管理の徹底、リスクの把握、分散化、最小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ndustr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新しい流れ、付加価値の創出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産業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imary (1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dustry 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（生産）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condary (2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dustry 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（加工）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rtiary (3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dustry 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（観光、サービス産業）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griculture was production activity, nothing for processing nor distribution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業は作っただけで終わり、流通、加工は他に依存してい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action among agriculture sector and other industries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６次化の試み、実績、農業と関連産業の連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 value added products, own sales and distribution channel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高付加価値化、販路の確保、魅力的な加工品開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gri Business, Green Tourism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グリビジネス、グリーンツーリズ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農業体験、農家レストラン、ファームイン、直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E06-2234-42B1-B28C-CA6AE15D1A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riculture in Hokkaido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海道の特性を活かす農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 and dry summer, extremely cold winter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冷涼な気候、厳しい冬の気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crop, large scal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単作、大規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larger, 20ha on average, 15 times bigger than other part of Japan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規模拡大の進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ha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本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3ha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比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程度の大き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distance to major markets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方、大規模消費地までの距離は大き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dy fields and fields are taking 70% of entire cultivatable area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水田、畑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小麦、雑穀、豆類、イモ類、野菜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 farms are the rest, 30%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畜産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肉用牛、乳用牛、牛乳（酪農）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AC9-4AFA-4D3D-83FB-998ABE60A9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kkaido, how big is it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海道と日本全国の比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240" cy="4524840"/>
        </p:xfrm>
        <a:graphic>
          <a:graphicData uri="http://schemas.openxmlformats.org/drawingml/2006/table">
            <a:tbl>
              <a:tblPr/>
              <a:tblGrid>
                <a:gridCol w="3347280"/>
                <a:gridCol w="1801080"/>
                <a:gridCol w="1801080"/>
                <a:gridCol w="1279800"/>
              </a:tblGrid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日本全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kka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北海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m Land (ha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農地面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9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m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農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mer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農業就業人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5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Value (US$ mil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農業生産額（億円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88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66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003-16A7-4802-BE40-C1B46E9D5D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iculties in Hokkaido Agricultur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海道農業の現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tough environment across Hokkaido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環境面で追い風、しかしながら足元は逆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of production age group out of Hokkaido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生産人口の道外流出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to Sapporo area, leaving their own villages and towns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残った道民の札幌への一極集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drop in farm numbers by 15.4%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家戸数が大きく減少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4%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,841 -&gt;  20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9,0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 issues lead to serious shortage in production age group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口問題、担い手不足がますます深刻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rmers dropped by 13.8%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農業就業人口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8 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減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2,387 -&gt; 20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,49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34D-239B-476D-B642-6C89F932AE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目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バックグラン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Import Dependency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輸入農産物への高い依存の理由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orrective Actions?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増産、自給率改善の方策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hange Diet Patterns?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食事のパターンを変えることは可能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Produces ?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増産を担うのは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tries by Large Scale Firms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農業参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dividual Farmers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規就農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rend in Agriculture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しい農業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kkaido for the Best for Farms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海道の特性を活かす農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ustry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海道を活か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産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s in Hokkaido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海道農業の現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omma Farm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間農場の現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ma Farm in Future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間農場の今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703-EB78-4153-B4D6-5E0879294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dustry to vitalize Hokkaido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海道を活か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産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griculture Sector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農業分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ice production is enjoying good reputation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米作りが元気にな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ood taste, high quality and better price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美味、高品質、高価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arge scale production with less cost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規模農業、低い生産コス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provement of species by gene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寒冷地に合ったコメの品種改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obal warming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地球温暖化と生産適地の北方移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Tourism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ツーリズ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asonable airfare and package tour cost lead more tourists to Hokkaido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航空運賃の低下、ツアー料金の低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any foreigner are visiting Hokkaido for great nature, hot spring and nice food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雄大な自然、温泉やおいしい食材を求め海外からの訪問客が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iseko attracts many Australian skiers and snowboarders with so many new condominium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二セコにはオーストラリア人を中心に冬のスキー客が大幅に増加、コンドミニアムの建設ラッシ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any tourists are coming from Asian countries in green season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冬だけではなく、グリーンシーズン中のアジアからの来訪者、滞在者が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umber of agri-touring facilities in Hokkaido counts 1,849, which doubled in last 7 year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北海道全体ではアグリツーリズム関連施設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,84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間で倍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90C-58D5-42B4-A9B2-DE14B4D3B6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27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6000" y="56844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f Global 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3080" y="17924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3080" y="4384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2520" y="1413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03440" y="13604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6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5B1-FA67-444B-B2F6-E938D34056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ma Farm, Current Status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間農場の現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arted 3 years ago                       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前に農地を入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mute every month from Yokohama, from May to October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横浜から５月から１０月の間、毎月通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ong support by local professional farmer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現地プロ農家の機械力に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ll dependency on him for any heavy lifting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機械力を要する重い作業の提供を依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eating healthy soil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健康な土づく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arning technique for Niseko’s specific weather, soil for best cropping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栽培技術を勉強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rket survey, market development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市場調査、市場開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tworking             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ネットワーク作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le down in a few years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で定住し、本格的に始めた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132-1AD6-41FF-8BAB-21A613C2FF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FEF-E752-4937-AF6B-5B39FFE750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0A4-1A21-4510-BC81-9E7796D684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-674640"/>
            <a:ext cx="5964120" cy="8209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10880" y="620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 Full Cou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11592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ma Farm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666-0F91-4CD9-8347-DA61E4D66F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1648" t="14996" r="0" b="0"/>
          <a:stretch/>
        </p:blipFill>
        <p:spPr>
          <a:xfrm>
            <a:off x="0" y="0"/>
            <a:ext cx="10717200" cy="694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42B-FDF5-4561-9DB5-2DB9D93049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7D7-9569-4969-A5A2-8FB8B74437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ma Farm in Future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間農場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and,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さらに今後、農地を追加する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Organic Farming Method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有機野菜の需要増加に対応し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Japanese Agriculture Standard (JAS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認定を目指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需要増、市場規模の拡大により、オーガニック野菜の生産農家の増加傾向が続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 Farmers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1,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f JAS certified product, 48,000 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慢性的な供給不足の状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eyard and Winery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ワイン用ブドウ畑も併設、将来のワイナリーも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b Garden, English Garde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も併設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Restaurants 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有機野菜レストランを作ることができれば最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beautiful scenery, nice food, nice wine, beautiful garden together for quality life                   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自分も訪問する人もいっしょに楽しめる農場を作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63C-206C-48D9-9C47-296C088062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260360" y="-819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1DB-3A8E-42E7-AD44-385D4B617D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ックグランド、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Hike in Corn, Soy Bean, Crude Oil &amp; Other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食糧価格の高騰、原油価格の高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Hike in Fertilizer by 60%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肥料価格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値上げ、食料価格の上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Increase in Demand by China, India with Large Population with Economic Growth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消費国の需要増（原油、食料、肥料用原料、他の一次産品が同じ状況になるリス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ufficiency Ratio of Japan is only 39%, Lowest among G8,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自給率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パーセント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中では最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Import Dependency and Stagnant Domestic Farming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輸入依存増加と国内生産の低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not keep this high dependency any more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このまま輸入に依存できない状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we do then?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は何をやる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3FA-12D3-46C2-834B-216FEA9E41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2A6-F68F-48F0-907A-17D1912218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FE5-2FBA-47C4-B483-25119FA219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1185560" cy="838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5FF-3ECB-4F40-8875-0AA8E0F4A9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BEB-936A-4C93-A8D7-F9B57DE189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A9F-0D19-401C-89C9-797520A231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 is the lowest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の自給率は最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1135080"/>
          <a:ext cx="7993080" cy="557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35080"/>
                    <a:ext cx="799308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C1D-3886-42D1-9010-B65CAFE571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Change in Food Self Sufficiency in Major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国の食糧自給率：歴史的な変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856720" cy="434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92720" y="54450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29242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51120" y="39322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17640" y="4363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7440" y="429264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686-380C-472C-A624-7E81111218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ade Balance of Agri Products</a:t>
            </a:r>
            <a:br>
              <a:rPr sz="4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農産物輸出入額の比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2214720"/>
                <a:gridCol w="2004840"/>
                <a:gridCol w="2005200"/>
                <a:gridCol w="2004840"/>
              </a:tblGrid>
              <a:tr h="71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$100m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輸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輸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バラン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1AC-19B9-4B52-8A45-8CB6677F4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griculture in Japan became so fragile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の農業衰退の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free trade pressure and stopping subsidies to farm products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産物輸入への強い圧力と農業保護政策の見直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ke in production cost, yet stagnant sales prices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生産コストの高騰と農産物価格の低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ubsidy, loss making, stop planting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補助金の廃止、収益性がない、生産中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abandoned farm lands and fields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耕作放棄地の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number of children in aging society, demographic concentration to major cities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人口少子高齢化、都市への一極集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farmers, small scale farms without successors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高齢化した農民、小規模農家、後継者不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diet pattern, cooking pattern and demand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食事パターン、調理パターン、需要の変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5E6-7EFA-47B9-A276-23DDB68687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o much dependency on imported food?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輸入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割を頼らざるをえない原因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nge in diet pattern toward western food (meat, bread and pasta, dairy products)                             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食のパターンの変化、洋風化（肉、パンやパスタ、乳製品への依存が高まってきた。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ating out, outsourced cook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外食化　食の外部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er dependency on ready to eat, cooked meals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調理済み加工食品への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ouble income families with very short cooking time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共働き世帯の増加、調理時間短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single household, eating alone, eating out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単身世帯の増加、個食化、外食化　（単身世帯は材料から料理することが少ない傾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mand for cheap, stable quality and supply volume though out season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調理、加工用に安価、品質が均一、年間を通し安定した供給を求められたが、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mands were met from imported food rather than from domestic suppl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れらの変化に国内生産が対応でき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mport from overseas direct, Japanese manufactures established in those countries to process food and export to Japan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海外生産地からの直接輸入や、法人の海外投資、海外現地法人から加工品の輸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6CD-FE6F-491E-B77C-F291A5792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ories Breakdown (/person/day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摂取カロリーの食品別内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024520"/>
        </p:xfrm>
        <a:graphic>
          <a:graphicData uri="http://schemas.openxmlformats.org/drawingml/2006/table">
            <a:tbl>
              <a:tblPr/>
              <a:tblGrid>
                <a:gridCol w="1811160"/>
                <a:gridCol w="1703520"/>
                <a:gridCol w="1631880"/>
                <a:gridCol w="1622520"/>
                <a:gridCol w="1460520"/>
              </a:tblGrid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e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ce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estoc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肉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t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油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a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小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ga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砂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　魚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getabl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野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ybea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大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くだも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　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B45-9E49-4181-9868-8B0439EC47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03:23:05Z</dcterms:created>
  <dc:creator>abs</dc:creator>
  <dc:description/>
  <dc:language>en-US</dc:language>
  <cp:lastModifiedBy>abs</cp:lastModifiedBy>
  <dcterms:modified xsi:type="dcterms:W3CDTF">2008-07-04T20:49:41Z</dcterms:modified>
  <cp:revision>54</cp:revision>
  <dc:subject/>
  <dc:title>シンポジューム</dc:title>
</cp:coreProperties>
</file>