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E74-01F1-410B-BA47-5C038376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E90-FB91-4A42-B6F0-8276CB89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D1C-9F6C-4C2D-886C-30FEB96F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660-616D-4B60-9BF9-F5D50D73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D14-772A-4180-875A-1FACD950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D3B-4FA7-4101-94D6-BE22AD7F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6A6-BD8C-467B-A24A-88FD527A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122-F420-4409-9230-105A1440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E387-1FFD-4357-86A9-D938DCD7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4E4-E348-4761-A817-7C12A656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C49-CBDC-4CE0-97ED-4DB474AA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AF6-40C9-4340-B76E-FBFAFE52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53A3-C791-4D9F-8195-CF34F67F43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0012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IVERSITY ACCREDIT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JAPAN: PROBLEMS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POSSIBILITIES 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日本における認証評価：課題と可能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By Bern Mulv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hizuoka JA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November 21,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ntity over Quality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質より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mmittee “Hydr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tee on Faculty, Committee on Curriculum, Faculty Review Committee, Teacher Education Committee, Committee on Students/Admissions and the FD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y Over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ion Obs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or Gadge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t’s collect (and pretend to use) as much unnecessary technology as possible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コミッティー・ヒュド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誕生（委員会数及び活動の激増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教員委員会、カリキュラム委員会、教員審査委員会、</a:t>
            </a:r>
            <a:r>
              <a:rPr b="0" lang="zh-TW" sz="2000" spc="-1" strike="noStrike">
                <a:solidFill>
                  <a:srgbClr val="000000"/>
                </a:solidFill>
                <a:latin typeface="ＭＳ Ｐゴシック"/>
              </a:rPr>
              <a:t>教員養成委員会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、学生入試委員会、ＦＤ、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活動オーバーロー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出席率・参加率が第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ガジェット教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意味の無い技術化「教育的効果が無くても、取り敢えず使え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aculty Development “Monster”</a:t>
            </a:r>
            <a:br>
              <a:rPr sz="32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モンスター化されたファカルティ・ディベロップメン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D is a generic term for organized, institution-wide efforts to improve class content and teaching quality. This definition is necessarily extremely vague; specific examples, however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clude requiring peer-review of teach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olding faculty study sessions to discuss teaching methodolog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offering orientation seminars for new faculty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ＦＤというのは、教員が授業内容・方法を改善し向上させるための組織的な取組の総称。その意味するところは極めて広範にわたるが、具体的な例としては、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教員相互の授業参観の実施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授業方法についての研究会の開催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、新任教員のための研修会の開催などを挙げることができる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Expansion of FD Committe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2006 figur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ファカルティ・ディベロップメント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）の実施状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C:\Documents and Settings\モルビィ・バーン\My Documents\My Pictures\014.gif"/>
          <p:cNvPicPr/>
          <p:nvPr/>
        </p:nvPicPr>
        <p:blipFill>
          <a:blip r:embed="rId1"/>
          <a:stretch/>
        </p:blipFill>
        <p:spPr>
          <a:xfrm>
            <a:off x="2028960" y="2490840"/>
            <a:ext cx="50860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ansion of FD-Related Activ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2006 Figur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ファカルティ・ディベロップメント各活動の実施状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モルビィ・バーン\My Documents\My Pictures\015.gif"/>
          <p:cNvPicPr/>
          <p:nvPr/>
        </p:nvPicPr>
        <p:blipFill>
          <a:blip r:embed="rId1"/>
          <a:stretch/>
        </p:blipFill>
        <p:spPr>
          <a:xfrm>
            <a:off x="2014560" y="1576440"/>
            <a:ext cx="5114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s Continued….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更に量は勝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lks…about what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minar “war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er” evalu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o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ou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eers?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 (1993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owerful (&amp; the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udent evalu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安岡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200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yan (199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skowski (200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意味のない講演会開催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研修「競争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教員相互の授業参観・評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我々の（同じ専門的背景・現地位・立場・年齢などにある）ピア（同輩）は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学生による授業評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安岡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200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yan (199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skowski (200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od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yazaki International College’s curriculum re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wate University’s hiring re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宮崎国際大学のカリキュラム改善計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岩手大学雇用条件の改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Accreditation in Japan: Characteristics 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日本における認証評価の特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-party evaluation (by government-approved agenc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to be repeated every seven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possible results (pass, probation and fai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must be publicized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文部科学大臣認証の評価機関（認証評価機関）が実施す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７年毎に受けなければなら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大学は、様々な状況を踏まえた上で、「認定」「不認定」「保留」のいずれか判定され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評価結果公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/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経緯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attempt was made in 1947, with 46 schools particip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pan University Accreditation Associ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the U.S. model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 criteria and procedures publicized in 19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昭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年、当時の国・公・私立大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6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校を発起校として設立され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日本大学基準協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アメリカのアクレディテーション団体をモデルに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平成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年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大学評価マニュア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』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を公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nji Kyouiku Shingikai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臨時教育審議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Report about Education Reform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shed in 198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als: “Rebuild trust in the education world” and “raise international competitivenes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ocated “self- assessments” &amp; formal accreditation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教育改革に関する第二次答申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昭和６１年発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目標：「教育界の信頼の回復」及び「国際競争力の向上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「自己評価」及び「アクレディテーション」の導入提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f-Assessments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自己評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ituted formally in 199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8% had completed at least one by 1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pections without any assessmen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平成３年導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平成９年，国公私立大学全５８７校中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8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％の大学で自己点検・評価を実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「点検あって評価なし」と厳しい指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XT’s Other Motivations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文部科学省の第二の動機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graphic trends and their impact on university student recruitment (i.e., start of the “everybody can get into university” e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p resultant decline in average 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maintain educational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少子化における志願者減少及び大学の志願者に対する収容力（いわゆる「全入時代」の誕生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学力低下の防止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卒業時における質の確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datory University Accreditation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第三者による認証評価の義務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s announced in 1991 (Daigaku Shingika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ted in 2004 (trial assessments from 20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ur official accrediting agenc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pan University Accreditation Assoc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stitution for Academic Degrees and University Evaluation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pan Institution for Higher Education Evalu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pan Association for College Accred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平成３年、評価基準など、大学審議会答申集で発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6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年より実施（ただし、１３年より試実施開始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文部科学大臣が認証する評価機関（認証評価機関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１）大学基準協会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JUA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２）大学評価・学位授与機構  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IAD-U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３）</a:t>
            </a:r>
            <a:r>
              <a:rPr b="0" lang="zh-TW" sz="2000" spc="-1" strike="noStrike">
                <a:solidFill>
                  <a:srgbClr val="000000"/>
                </a:solidFill>
                <a:latin typeface="ＭＳ Ｐゴシック"/>
              </a:rPr>
              <a:t>日本高等教育評価機構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JIHE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４）短期大学基準協会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JACA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ACCREDITATION PROCESS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認証評価システムの概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reditation schedule &amp; procedures,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mission of Self-Study Report (e.g., are school mission &amp; educational goals being achiev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ten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-site insp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verwhelmingly positive im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認証</a:t>
            </a:r>
            <a:r>
              <a:rPr b="0" lang="zh-TW" sz="2400" spc="-1" strike="noStrike">
                <a:solidFill>
                  <a:srgbClr val="000000"/>
                </a:solidFill>
                <a:latin typeface="ＭＳ Ｐゴシック"/>
              </a:rPr>
              <a:t>評価申請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手続き、認証評価の基本スケジュール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自己評価（使命や目標の達成状況等ついて自らを評価する事により、教育研究活動の改善に資する目的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書面質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現地調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圧倒的に良い印象を受け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 Concerns: “Curriculum” &amp; “Faculty”  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基準に対する疑問点： 「課程」及び「教員」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erior teachin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ir evalua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improvemen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priate efforts (to improve faculty &amp; curriculum quality)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ing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「課程」及び「教員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定義問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優れた”指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公平な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評価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期待すべ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成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妥当な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努力（特に、指導力や課程の改善・向上へ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評価基準の審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3:06:34Z</dcterms:created>
  <dc:creator>モルビィ・バーン</dc:creator>
  <dc:description/>
  <dc:language>en-US</dc:language>
  <cp:lastModifiedBy>モルビィ・バーン</cp:lastModifiedBy>
  <dcterms:modified xsi:type="dcterms:W3CDTF">2009-12-18T06:49:29Z</dcterms:modified>
  <cp:revision>73</cp:revision>
  <dc:subject/>
  <dc:title> UNIVERSITY ACCREDITATION  IN JAPAN: PROBLEMS AND POSSIBILITIES  </dc:title>
</cp:coreProperties>
</file>